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26.wmf" ContentType="image/x-wmf"/>
  <Override PartName="/ppt/media/image23.png" ContentType="image/png"/>
  <Override PartName="/ppt/media/image22.wmf" ContentType="image/x-wmf"/>
  <Override PartName="/ppt/media/image20.jpeg" ContentType="image/jpeg"/>
  <Override PartName="/ppt/media/image21.png" ContentType="image/png"/>
  <Override PartName="/ppt/media/image19.wmf" ContentType="image/x-wmf"/>
  <Override PartName="/ppt/media/image18.wmf" ContentType="image/x-wmf"/>
  <Override PartName="/ppt/media/image17.png" ContentType="image/png"/>
  <Override PartName="/ppt/media/image16.png" ContentType="image/png"/>
  <Override PartName="/ppt/media/image9.png" ContentType="image/png"/>
  <Override PartName="/ppt/media/image11.wmf" ContentType="image/x-wmf"/>
  <Override PartName="/ppt/media/image30.wmf" ContentType="image/x-wmf"/>
  <Override PartName="/ppt/media/image10.png" ContentType="image/png"/>
  <Override PartName="/ppt/media/image28.wmf" ContentType="image/x-wmf"/>
  <Override PartName="/ppt/media/image31.wmf" ContentType="image/x-wmf"/>
  <Override PartName="/ppt/media/image3.png" ContentType="image/png"/>
  <Override PartName="/ppt/media/image33.png" ContentType="image/png"/>
  <Override PartName="/ppt/media/image8.png" ContentType="image/png"/>
  <Override PartName="/ppt/media/image32.wmf" ContentType="image/x-wmf"/>
  <Override PartName="/ppt/media/image12.wmf" ContentType="image/x-wmf"/>
  <Override PartName="/ppt/media/image13.png" ContentType="image/png"/>
  <Override PartName="/ppt/media/image36.wmf" ContentType="image/x-wmf"/>
  <Override PartName="/ppt/media/image38.wmf" ContentType="image/x-wmf"/>
  <Override PartName="/ppt/media/image40.wmf" ContentType="image/x-wmf"/>
  <Override PartName="/ppt/media/image39.wmf" ContentType="image/x-wmf"/>
  <Override PartName="/ppt/media/image7.wmf" ContentType="image/x-wmf"/>
  <Override PartName="/ppt/media/image37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15.png" ContentType="image/png"/>
  <Override PartName="/ppt/media/image14.png" ContentType="image/png"/>
  <Override PartName="/ppt/media/image34.wmf" ContentType="image/x-wmf"/>
  <Override PartName="/ppt/media/image4.wmf" ContentType="image/x-wmf"/>
  <Override PartName="/ppt/media/image27.wmf" ContentType="image/x-wmf"/>
  <Override PartName="/ppt/media/image2.png" ContentType="image/png"/>
  <Override PartName="/ppt/media/image25.png" ContentType="image/png"/>
  <Override PartName="/ppt/media/image24.png" ContentType="image/pn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  <p:sldId id="270" r:id="rId35"/>
    <p:sldId id="271" r:id="rId36"/>
    <p:sldId id="272" r:id="rId37"/>
    <p:sldId id="273" r:id="rId38"/>
    <p:sldId id="274" r:id="rId39"/>
    <p:sldId id="275" r:id="rId40"/>
    <p:sldId id="276" r:id="rId41"/>
    <p:sldId id="277" r:id="rId42"/>
    <p:sldId id="278" r:id="rId43"/>
    <p:sldId id="279" r:id="rId44"/>
    <p:sldId id="280" r:id="rId45"/>
    <p:sldId id="281" r:id="rId46"/>
    <p:sldId id="282" r:id="rId47"/>
    <p:sldId id="283" r:id="rId48"/>
    <p:sldId id="284" r:id="rId49"/>
    <p:sldId id="285" r:id="rId50"/>
    <p:sldId id="286" r:id="rId51"/>
    <p:sldId id="287" r:id="rId52"/>
    <p:sldId id="288" r:id="rId53"/>
    <p:sldId id="289" r:id="rId54"/>
    <p:sldId id="290" r:id="rId55"/>
    <p:sldId id="291" r:id="rId56"/>
    <p:sldId id="292" r:id="rId57"/>
    <p:sldId id="293" r:id="rId58"/>
    <p:sldId id="294" r:id="rId59"/>
    <p:sldId id="295" r:id="rId60"/>
    <p:sldId id="296" r:id="rId61"/>
    <p:sldId id="297" r:id="rId62"/>
    <p:sldId id="298" r:id="rId63"/>
    <p:sldId id="299" r:id="rId64"/>
    <p:sldId id="300" r:id="rId65"/>
    <p:sldId id="301" r:id="rId66"/>
    <p:sldId id="302" r:id="rId67"/>
    <p:sldId id="303" r:id="rId68"/>
    <p:sldId id="304" r:id="rId69"/>
    <p:sldId id="305" r:id="rId70"/>
    <p:sldId id="306" r:id="rId71"/>
    <p:sldId id="307" r:id="rId72"/>
    <p:sldId id="308" r:id="rId73"/>
    <p:sldId id="309" r:id="rId74"/>
    <p:sldId id="310" r:id="rId75"/>
    <p:sldId id="311" r:id="rId76"/>
    <p:sldId id="312" r:id="rId77"/>
    <p:sldId id="313" r:id="rId78"/>
  </p:sldIdLst>
  <p:sldSz cx="9902825" cy="6858000"/>
  <p:notesSz cx="6792913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slide" Target="slides/slide15.xml"/><Relationship Id="rId36" Type="http://schemas.openxmlformats.org/officeDocument/2006/relationships/slide" Target="slides/slide16.xml"/><Relationship Id="rId37" Type="http://schemas.openxmlformats.org/officeDocument/2006/relationships/slide" Target="slides/slide17.xml"/><Relationship Id="rId38" Type="http://schemas.openxmlformats.org/officeDocument/2006/relationships/slide" Target="slides/slide18.xml"/><Relationship Id="rId39" Type="http://schemas.openxmlformats.org/officeDocument/2006/relationships/slide" Target="slides/slide19.xml"/><Relationship Id="rId40" Type="http://schemas.openxmlformats.org/officeDocument/2006/relationships/slide" Target="slides/slide20.xml"/><Relationship Id="rId41" Type="http://schemas.openxmlformats.org/officeDocument/2006/relationships/slide" Target="slides/slide21.xml"/><Relationship Id="rId42" Type="http://schemas.openxmlformats.org/officeDocument/2006/relationships/slide" Target="slides/slide22.xml"/><Relationship Id="rId43" Type="http://schemas.openxmlformats.org/officeDocument/2006/relationships/slide" Target="slides/slide23.xml"/><Relationship Id="rId44" Type="http://schemas.openxmlformats.org/officeDocument/2006/relationships/slide" Target="slides/slide24.xml"/><Relationship Id="rId45" Type="http://schemas.openxmlformats.org/officeDocument/2006/relationships/slide" Target="slides/slide25.xml"/><Relationship Id="rId46" Type="http://schemas.openxmlformats.org/officeDocument/2006/relationships/slide" Target="slides/slide26.xml"/><Relationship Id="rId47" Type="http://schemas.openxmlformats.org/officeDocument/2006/relationships/slide" Target="slides/slide27.xml"/><Relationship Id="rId48" Type="http://schemas.openxmlformats.org/officeDocument/2006/relationships/slide" Target="slides/slide28.xml"/><Relationship Id="rId49" Type="http://schemas.openxmlformats.org/officeDocument/2006/relationships/slide" Target="slides/slide29.xml"/><Relationship Id="rId50" Type="http://schemas.openxmlformats.org/officeDocument/2006/relationships/slide" Target="slides/slide30.xml"/><Relationship Id="rId51" Type="http://schemas.openxmlformats.org/officeDocument/2006/relationships/slide" Target="slides/slide31.xml"/><Relationship Id="rId52" Type="http://schemas.openxmlformats.org/officeDocument/2006/relationships/slide" Target="slides/slide32.xml"/><Relationship Id="rId53" Type="http://schemas.openxmlformats.org/officeDocument/2006/relationships/slide" Target="slides/slide33.xml"/><Relationship Id="rId54" Type="http://schemas.openxmlformats.org/officeDocument/2006/relationships/slide" Target="slides/slide34.xml"/><Relationship Id="rId55" Type="http://schemas.openxmlformats.org/officeDocument/2006/relationships/slide" Target="slides/slide35.xml"/><Relationship Id="rId56" Type="http://schemas.openxmlformats.org/officeDocument/2006/relationships/slide" Target="slides/slide36.xml"/><Relationship Id="rId57" Type="http://schemas.openxmlformats.org/officeDocument/2006/relationships/slide" Target="slides/slide37.xml"/><Relationship Id="rId58" Type="http://schemas.openxmlformats.org/officeDocument/2006/relationships/slide" Target="slides/slide38.xml"/><Relationship Id="rId59" Type="http://schemas.openxmlformats.org/officeDocument/2006/relationships/slide" Target="slides/slide39.xml"/><Relationship Id="rId60" Type="http://schemas.openxmlformats.org/officeDocument/2006/relationships/slide" Target="slides/slide40.xml"/><Relationship Id="rId61" Type="http://schemas.openxmlformats.org/officeDocument/2006/relationships/slide" Target="slides/slide41.xml"/><Relationship Id="rId62" Type="http://schemas.openxmlformats.org/officeDocument/2006/relationships/slide" Target="slides/slide42.xml"/><Relationship Id="rId63" Type="http://schemas.openxmlformats.org/officeDocument/2006/relationships/slide" Target="slides/slide43.xml"/><Relationship Id="rId64" Type="http://schemas.openxmlformats.org/officeDocument/2006/relationships/slide" Target="slides/slide44.xml"/><Relationship Id="rId65" Type="http://schemas.openxmlformats.org/officeDocument/2006/relationships/slide" Target="slides/slide45.xml"/><Relationship Id="rId66" Type="http://schemas.openxmlformats.org/officeDocument/2006/relationships/slide" Target="slides/slide46.xml"/><Relationship Id="rId67" Type="http://schemas.openxmlformats.org/officeDocument/2006/relationships/slide" Target="slides/slide47.xml"/><Relationship Id="rId68" Type="http://schemas.openxmlformats.org/officeDocument/2006/relationships/slide" Target="slides/slide48.xml"/><Relationship Id="rId69" Type="http://schemas.openxmlformats.org/officeDocument/2006/relationships/slide" Target="slides/slide49.xml"/><Relationship Id="rId70" Type="http://schemas.openxmlformats.org/officeDocument/2006/relationships/slide" Target="slides/slide50.xml"/><Relationship Id="rId71" Type="http://schemas.openxmlformats.org/officeDocument/2006/relationships/slide" Target="slides/slide51.xml"/><Relationship Id="rId72" Type="http://schemas.openxmlformats.org/officeDocument/2006/relationships/slide" Target="slides/slide52.xml"/><Relationship Id="rId73" Type="http://schemas.openxmlformats.org/officeDocument/2006/relationships/slide" Target="slides/slide53.xml"/><Relationship Id="rId74" Type="http://schemas.openxmlformats.org/officeDocument/2006/relationships/slide" Target="slides/slide54.xml"/><Relationship Id="rId75" Type="http://schemas.openxmlformats.org/officeDocument/2006/relationships/slide" Target="slides/slide55.xml"/><Relationship Id="rId76" Type="http://schemas.openxmlformats.org/officeDocument/2006/relationships/slide" Target="slides/slide56.xml"/><Relationship Id="rId77" Type="http://schemas.openxmlformats.org/officeDocument/2006/relationships/slide" Target="slides/slide57.xml"/><Relationship Id="rId78" Type="http://schemas.openxmlformats.org/officeDocument/2006/relationships/slide" Target="slides/slide58.xml"/><Relationship Id="rId7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"/>
          <p:cNvSpPr/>
          <p:nvPr/>
        </p:nvSpPr>
        <p:spPr>
          <a:xfrm>
            <a:off x="0" y="0"/>
            <a:ext cx="6793200" cy="991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dt" idx="52"/>
          </p:nvPr>
        </p:nvSpPr>
        <p:spPr>
          <a:xfrm>
            <a:off x="38498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 type="sldImg"/>
          </p:nvPr>
        </p:nvSpPr>
        <p:spPr>
          <a:xfrm>
            <a:off x="712800" y="743040"/>
            <a:ext cx="5370480" cy="37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move the slid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45" name="PlaceHolder 4"/>
          <p:cNvSpPr>
            <a:spLocks noGrp="1"/>
          </p:cNvSpPr>
          <p:nvPr>
            <p:ph type="body"/>
          </p:nvPr>
        </p:nvSpPr>
        <p:spPr>
          <a:xfrm>
            <a:off x="906480" y="4710240"/>
            <a:ext cx="49816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PlaceHolder 5"/>
          <p:cNvSpPr>
            <a:spLocks noGrp="1"/>
          </p:cNvSpPr>
          <p:nvPr>
            <p:ph type="ftr" idx="53"/>
          </p:nvPr>
        </p:nvSpPr>
        <p:spPr>
          <a:xfrm>
            <a:off x="0" y="94233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6"/>
          <p:cNvSpPr>
            <a:spLocks noGrp="1"/>
          </p:cNvSpPr>
          <p:nvPr>
            <p:ph type="sldNum" idx="54"/>
          </p:nvPr>
        </p:nvSpPr>
        <p:spPr>
          <a:xfrm>
            <a:off x="3849840" y="94233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839B1E1-B3CF-45E0-880D-EB5D358BA46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sldImg"/>
          </p:nvPr>
        </p:nvSpPr>
        <p:spPr>
          <a:xfrm>
            <a:off x="712800" y="743040"/>
            <a:ext cx="5370480" cy="3719520"/>
          </a:xfrm>
          <a:prstGeom prst="rect">
            <a:avLst/>
          </a:prstGeom>
          <a:ln w="0">
            <a:noFill/>
          </a:ln>
        </p:spPr>
      </p:sp>
      <p:sp>
        <p:nvSpPr>
          <p:cNvPr id="1424" name="PlaceHolder 2"/>
          <p:cNvSpPr>
            <a:spLocks noGrp="1"/>
          </p:cNvSpPr>
          <p:nvPr>
            <p:ph type="body"/>
          </p:nvPr>
        </p:nvSpPr>
        <p:spPr>
          <a:xfrm>
            <a:off x="906480" y="4710240"/>
            <a:ext cx="49816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Slide Number Placeholder 3"/>
          <p:cNvSpPr/>
          <p:nvPr/>
        </p:nvSpPr>
        <p:spPr>
          <a:xfrm>
            <a:off x="3849840" y="94233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272F35D-B3B4-4993-994B-E17F2E2E0D42}" type="slidenum">
              <a:rPr b="0" lang="en-GB" sz="1200" spc="-1" strike="noStrike">
                <a:solidFill>
                  <a:srgbClr val="8f210b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sldImg"/>
          </p:nvPr>
        </p:nvSpPr>
        <p:spPr>
          <a:xfrm>
            <a:off x="712800" y="743040"/>
            <a:ext cx="5370480" cy="3719520"/>
          </a:xfrm>
          <a:prstGeom prst="rect">
            <a:avLst/>
          </a:prstGeom>
          <a:ln w="0">
            <a:noFill/>
          </a:ln>
        </p:spPr>
      </p:sp>
      <p:sp>
        <p:nvSpPr>
          <p:cNvPr id="1427" name="PlaceHolder 2"/>
          <p:cNvSpPr>
            <a:spLocks noGrp="1"/>
          </p:cNvSpPr>
          <p:nvPr>
            <p:ph type="body"/>
          </p:nvPr>
        </p:nvSpPr>
        <p:spPr>
          <a:xfrm>
            <a:off x="906480" y="4710240"/>
            <a:ext cx="49816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Slide Number Placeholder 3"/>
          <p:cNvSpPr/>
          <p:nvPr/>
        </p:nvSpPr>
        <p:spPr>
          <a:xfrm>
            <a:off x="3849840" y="94233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C29DFA3-7AE8-4A84-9344-2CF461DAA864}" type="slidenum">
              <a:rPr b="0" lang="en-GB" sz="1200" spc="-1" strike="noStrike">
                <a:solidFill>
                  <a:srgbClr val="8f210b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108B-CA1D-45D7-9C0E-A2DAFB2EF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8516-BE62-431C-9A1E-00990B403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7D403E-3C23-4297-B77E-A1462273F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27F30E-FA00-4550-969B-128A21864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09228B-A990-4019-BCA6-22ECE476D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C8E963-3EC5-4D1D-B5F6-EE488DDA5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6BDD32-5BF0-461D-A927-BF4F42FB4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93ABBB-E4DC-4D8F-8488-61F47B3D5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1CF4A2-0D84-4A24-AF98-F2DB2C55B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6ACF29-6D5A-4149-ABDE-E4BE42FA9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9064E5-CCDD-4E86-BF7E-DDC759EB7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7BA65F-32CE-4A53-8BBE-8CD3B211A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1196-F089-4B98-9CE2-E8A876882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0381EE-E685-43D9-B080-8B2DBBEDD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FEE5D0-7944-46F3-8A02-CA6B03F75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0ACAE7-6DE7-4C50-B580-3B48C8FFD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6FA9B0-7552-4822-BB69-7A40B2857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226B07-C6E5-48A9-98A2-C1AACC3FF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A15917-DF1B-4564-B5BB-76E503021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F4926B-F578-40D6-B915-47FE46848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90B1CB-1A5C-414D-A654-290E1A9A9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702FC1-4E02-400E-B38D-10E704C6F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2BFDEF-84BD-42A3-9BAD-9ABA1A913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A3C3-14D5-4C7B-A382-5C38C68C9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5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6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1F2E4A-6639-4103-9F5E-7AF0DD2E6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ED9A3F-4A65-48D1-9C10-9690E6CA4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DF8BE0-4FAC-4ACF-922D-2F91351A3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BFCFE6-E374-4DDC-B188-401B76A43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3662D6-2EC8-4968-9D19-6496A5467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954DB1-7AA3-42B4-8928-DFC91F138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C1091F-62DB-4028-A7BC-4FCADF287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71D787-B7AE-4093-98C9-9799D2C85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8E2909-C798-4213-B7F0-C15DFF193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AE00FD-4D29-4E5D-9C31-20A8AA720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B4482A-CD01-4290-9C46-40FA24C6F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7884B9-F2C4-44DD-9AD7-4F6B7B95A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3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4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AEA77A-8EA8-4536-9957-6CA989CF8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04B384-7D3C-4794-AB51-F7199EF7A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A92A07-0129-4E85-8A57-0CC52144D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37C73A-2FDD-4815-9FBF-A44A79D8E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99E704-D21F-46ED-AF1A-68E5CDB19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39CF7C-1DA7-4107-9C3A-FE4F97668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FF5185-2D2E-4FB7-A9FF-80BD1282D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4D4DF7-6DDC-4678-A5DA-57081E1BA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BF460A-15E7-48F1-96CF-82F7F2640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72A76A-E228-4680-BA6A-1FA6911FC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EDFFE4-7EC1-47D8-89B2-084080B71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52F6BF-5D57-471C-8C33-0C613A392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1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2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C27A1E-13E3-41B3-AE54-80F8AC6F0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30C869-E54A-4CF9-B730-25523E59B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16B583-25A5-48CE-A322-2229B1175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ECA12F-2EE6-47BC-9392-2795FAB40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59E823-DD36-48CE-AFB9-A286DE95D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EF61DF-6213-4B4D-88D4-B766FEA52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7C8D01-DD8A-498E-B9DF-FD6454241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DAD84E-B2C1-47A5-AC41-83FF11A96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024039-A921-4F81-8F4A-B1F0E5A2A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4659EE-0511-415B-A45F-37EB1FEC6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B4A658-F789-4453-8018-7FD35A06F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A65792-9552-4FB2-9790-282969151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9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50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DB360C-1C66-4DA9-A34A-935ED4247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5007DA-1C52-408B-BB73-12DD8120F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960F6C-CA0A-4C2C-A20E-2E6379E22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7CF15B-E445-422A-BD46-52520311B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0532DB-A168-4CD0-AFD5-71E9982FA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76F5AB-9A80-4995-88C2-729B40242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BD7315-F854-4FA4-ABF6-FE08C3ABC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3DF003-4FB5-48BB-8C8A-0D61F72DD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81DD64-9811-41DC-A5AB-1594A03DF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0276A6-8502-4E38-8834-F29B9945C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5320A6-A78E-438C-AE8C-2D64BE1B7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1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CC6F56-7487-49B3-A1C1-5852FDEA9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6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7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8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597120-7961-45EA-B567-9BD14BED8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A17A521-77C7-46F1-858F-53FD28223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BA9959-A17F-428D-9518-BF634F017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6BD2263-02A7-4B60-B939-1F2B55184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E10EB4F-0D0A-484E-8AC5-A6BD9D59F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E328365-51E2-4D3D-B0F0-733778106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75BEC0B-B3A6-46FA-9263-9BCE7A65E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6C5748-367E-4BDE-ABCE-4187B2856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5BD929-E48F-4BF4-ADA7-256013E2F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F6435A-EAE0-499F-A7EC-ECE480836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ED5E51-3A26-43E6-ACD9-228B1F679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9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A04294-CA67-4F41-AAD4-A480EE56A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4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5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6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C709EAB-0779-4932-80E6-9E4052E84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11AF554-6661-4386-9522-EF7646E47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683EDBD-19A7-4173-AEB6-52757DF59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0A6C469-E3FE-4988-8413-864394768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6D0DAC2-3DC3-46DF-BC78-951CFCADC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0C5DFFB-DA80-4EF4-A1C9-25856EF96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B64FA04-A105-4F63-AEA5-5647D0845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5EA55D6-7A28-497A-9307-D5D1316B9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9ED1481-9A5A-4D04-B276-FA6901194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6837806-548C-48CB-95FD-309D09694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00D82DE-1D86-4576-A6D2-FA286E986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7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3D03FEF-51A8-4814-A7FA-F28821FF8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3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4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A1248E9-0DC3-4B9B-9484-8AD6B9F4B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AF78634-4411-47E6-93EF-AF5B217C4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AD19AF4-45DC-4AA6-B240-36765972B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E520CCB-E459-4B5F-93F6-2FA1C4B8D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7FD26F3-D0F9-47DD-B44D-3759F2A4B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CB94D02-BE3C-4411-AEB3-798C1F582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C33E292-2B9E-4C26-A0B4-538797E36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B4D49CD-E602-40DD-9901-90BF32D83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11C2-9A81-4A2B-9D11-70C1A7D1C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1818FD5-57A9-47F9-9ACE-E505351A0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A68E41C-58E4-4826-8172-C02F52162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74526FB-28A5-4A44-9C95-8A2ACF2AA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5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B125D9F-A234-4B82-856D-172864A01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1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2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8A52175-0FC2-49DE-8F00-BF831804D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B10BFE1-FD10-4F99-A350-B5286797F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9495417-C70E-43CC-B0CF-744BA1780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280E0EA-6AE0-479E-AAE6-7AD32B4A7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D5EFEAE-9FB4-4196-874A-7F6601EAF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EC0AC57-1972-4B85-A47B-2F2985D09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871CAD0-E36E-469E-83AF-649526D6C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336058B-1095-4B89-BABC-02A4513D3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060F608-E5A3-469D-B4DC-FE9047E63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0BE0C64-AC6E-4EA5-B102-01938208C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80FA0B5-F0C5-4C5E-B62B-D4061CE12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3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4BBA11F-99B4-442F-B72B-33390A8C2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7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8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9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0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8626FF3-69DE-43CB-B368-3A47FEF3D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E578-A800-4429-BC3B-F1BFAEFFD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E37F-E93D-438D-B1C0-304578BC5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B2DE39-2222-4954-8FC1-75CC1ED2E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1B15-8852-41CB-8F26-326D82900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237ED9-E470-4BC3-AB5A-30E4B4EE4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76A1A1-75A9-4450-B954-E11542EFE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0B9893-9098-442B-ABAC-8EC85AEF9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FA80C3-DF0F-4B59-98EE-BBB7C4942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13FAA7-D395-465C-AE26-A8B54CECD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F13D13-F2D8-4D94-9389-35740A114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D7A268-976B-41A4-A4E0-CC6760AA6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C65918-BD01-4413-BED3-964675461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F35D4E-0CD3-4FA4-95B9-CEEA03EBA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28B1B9-BB67-4190-9F10-A7CAF3C94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9D2D-B238-4C60-BAC6-6A3A3ED9C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73FCE4-2141-4223-937E-7F30B1B8D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41B5B5-697A-491E-8169-4236B0E2C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761C87-3A4B-469A-AEB9-86DADC729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7D6DB9-086E-4C4E-87E7-CCC0D119A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7974CC-AB2B-4778-BEBE-083070E4F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166396-9CA1-40D2-8DE9-F8E8C8C58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977147-4BF3-489A-B197-E99A6DB6F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14FBC3-6DD8-40FF-A711-5A5ABB3ED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561DBC-695B-4965-800D-CEB22FC98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F1B0D1-D2C9-4410-A11A-100260D87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25AF-653E-4A3E-A52C-95EE4C0A6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B36C4C-114F-45F5-BCBE-AA125E6DB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D1EF4B-9430-40E7-B2F3-4C6FA6642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306C5A-E699-4FEE-A137-3A1D6F4EF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D31C76-6431-4CD8-911A-4BF636728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AA6565-D834-44FF-AA76-E58D55285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EF362F-D224-40BD-AE54-63150343D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BCA403-A9B4-4A35-AE0A-48C24D171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2CD7E5-DECD-499D-B196-0308792B0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F187EF-2B37-4604-97A0-87F495383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E2EBA2-C88E-4ADB-92CE-078B964D6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BFAD-8D05-47EF-899A-2088A9F11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25DD0A-1D23-4A16-8BF4-477B63688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EEBCC9-DA45-4511-96CF-8DB52CC47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15B3D6-5320-4198-A330-5090335F0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9C94D8-1508-450B-A3E9-17EFE5394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2FEF05-30C7-4CE4-BD7A-05C2B71E5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7F9CAE-573B-4AE2-AC3A-D1E46FA31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C2AFC5-DBC1-474B-9F1C-831D17741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3CEAE4-29B4-471C-8347-67F2A3FF0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643FFF-F7A1-4CDB-ACDC-186A1DBB8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85230E-42E9-470E-A0CA-00C4D4DE9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F13F-243E-4CDF-A453-93F60091B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FC4A2F-9949-47F5-B7F4-133E8A791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7119B2-73A9-4B18-9FCF-8351B8344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6B5BB5-EAD5-4871-94E1-2A856FFBB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5817A1-11E9-49CF-B1C1-81C056C08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678AF2-3C5E-4C46-A77A-AF42C3E47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B05AD8-95CE-4C76-A32A-EAC5B101A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146DA1-F1F2-4268-A9F2-ABA4D1D93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FF8296-0A44-407D-853E-DA4526756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715760-2C4E-472F-B920-38A5D6E24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9AA414-D821-4B2B-82A4-5D42A258B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pSp>
        <p:nvGrpSpPr>
          <p:cNvPr id="5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6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0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1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3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4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5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6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9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0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21" name="Picture 23" descr=""/>
          <p:cNvPicPr/>
          <p:nvPr/>
        </p:nvPicPr>
        <p:blipFill>
          <a:blip r:embed="rId2"/>
          <a:stretch/>
        </p:blipFill>
        <p:spPr>
          <a:xfrm>
            <a:off x="8318520" y="6286680"/>
            <a:ext cx="857160" cy="571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9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20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1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2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3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4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5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6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7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8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9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0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1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2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3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4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535" name="Picture 23" descr=""/>
          <p:cNvPicPr/>
          <p:nvPr/>
        </p:nvPicPr>
        <p:blipFill>
          <a:blip r:embed="rId2"/>
          <a:stretch/>
        </p:blipFill>
        <p:spPr>
          <a:xfrm>
            <a:off x="8318520" y="6286680"/>
            <a:ext cx="857160" cy="571320"/>
          </a:xfrm>
          <a:prstGeom prst="rect">
            <a:avLst/>
          </a:prstGeom>
          <a:ln w="0">
            <a:noFill/>
          </a:ln>
        </p:spPr>
      </p:pic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 type="dt" idx="25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 type="ftr" idx="26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 type="sldNum" idx="27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993EC-7116-4FA8-9FD4-68B8ABABD413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7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78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79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0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1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2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3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4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5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6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7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8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9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90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91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92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593" name="Picture 23" descr=""/>
          <p:cNvPicPr/>
          <p:nvPr/>
        </p:nvPicPr>
        <p:blipFill>
          <a:blip r:embed="rId2"/>
          <a:stretch/>
        </p:blipFill>
        <p:spPr>
          <a:xfrm>
            <a:off x="8318520" y="6286680"/>
            <a:ext cx="857160" cy="571320"/>
          </a:xfrm>
          <a:prstGeom prst="rect">
            <a:avLst/>
          </a:prstGeom>
          <a:ln w="0">
            <a:noFill/>
          </a:ln>
        </p:spPr>
      </p:pic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dt" idx="28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 type="ftr" idx="29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 type="sldNum" idx="30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B99CF-0066-467F-BA5D-5DA3034B0879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5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636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37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38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39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0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1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2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3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4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5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6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7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8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9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50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651" name="Picture 23" descr=""/>
          <p:cNvPicPr/>
          <p:nvPr/>
        </p:nvPicPr>
        <p:blipFill>
          <a:blip r:embed="rId2"/>
          <a:stretch/>
        </p:blipFill>
        <p:spPr>
          <a:xfrm>
            <a:off x="8318520" y="6286680"/>
            <a:ext cx="857160" cy="571320"/>
          </a:xfrm>
          <a:prstGeom prst="rect">
            <a:avLst/>
          </a:prstGeom>
          <a:ln w="0">
            <a:noFill/>
          </a:ln>
        </p:spPr>
      </p:pic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 type="dt" idx="31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 type="ftr" idx="32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 type="sldNum" idx="33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982EF-CFD4-4F38-A539-40AF05A29057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3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694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5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6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7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8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9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0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1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2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3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4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5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6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7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8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709" name="Picture 23" descr=""/>
          <p:cNvPicPr/>
          <p:nvPr/>
        </p:nvPicPr>
        <p:blipFill>
          <a:blip r:embed="rId2"/>
          <a:stretch/>
        </p:blipFill>
        <p:spPr>
          <a:xfrm>
            <a:off x="8318520" y="6286680"/>
            <a:ext cx="857160" cy="571320"/>
          </a:xfrm>
          <a:prstGeom prst="rect">
            <a:avLst/>
          </a:prstGeom>
          <a:ln w="0">
            <a:noFill/>
          </a:ln>
        </p:spPr>
      </p:pic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 type="dt" idx="34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 type="ftr" idx="35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5"/>
          <p:cNvSpPr>
            <a:spLocks noGrp="1"/>
          </p:cNvSpPr>
          <p:nvPr>
            <p:ph type="sldNum" idx="36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787F2-9D2A-455C-B733-A1B7637F2B8D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1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752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3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4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5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6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7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8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9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0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1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2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3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4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5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6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767" name="Picture 23" descr=""/>
          <p:cNvPicPr/>
          <p:nvPr/>
        </p:nvPicPr>
        <p:blipFill>
          <a:blip r:embed="rId2"/>
          <a:stretch/>
        </p:blipFill>
        <p:spPr>
          <a:xfrm>
            <a:off x="8318520" y="6286680"/>
            <a:ext cx="857160" cy="571320"/>
          </a:xfrm>
          <a:prstGeom prst="rect">
            <a:avLst/>
          </a:prstGeom>
          <a:ln w="0">
            <a:noFill/>
          </a:ln>
        </p:spPr>
      </p:pic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dt" idx="37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 type="ftr" idx="38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 type="sldNum" idx="39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13493-FFE1-4A3C-91DA-2621B28C699F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9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810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1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2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3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4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5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6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7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8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9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0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1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2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3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4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825" name="Picture 23" descr=""/>
          <p:cNvPicPr/>
          <p:nvPr/>
        </p:nvPicPr>
        <p:blipFill>
          <a:blip r:embed="rId2"/>
          <a:stretch/>
        </p:blipFill>
        <p:spPr>
          <a:xfrm>
            <a:off x="8318520" y="6286680"/>
            <a:ext cx="857160" cy="571320"/>
          </a:xfrm>
          <a:prstGeom prst="rect">
            <a:avLst/>
          </a:prstGeom>
          <a:ln w="0">
            <a:noFill/>
          </a:ln>
        </p:spPr>
      </p:pic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 type="dt" idx="40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 type="ftr" idx="41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 type="sldNum" idx="42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6E40B-5D12-433E-A6E2-4E1EDCECA275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7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868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69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0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1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2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3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4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5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6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7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8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9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80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81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82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883" name="Picture 23" descr=""/>
          <p:cNvPicPr/>
          <p:nvPr/>
        </p:nvPicPr>
        <p:blipFill>
          <a:blip r:embed="rId2"/>
          <a:stretch/>
        </p:blipFill>
        <p:spPr>
          <a:xfrm>
            <a:off x="8318520" y="6286680"/>
            <a:ext cx="857160" cy="571320"/>
          </a:xfrm>
          <a:prstGeom prst="rect">
            <a:avLst/>
          </a:prstGeom>
          <a:ln w="0">
            <a:noFill/>
          </a:ln>
        </p:spPr>
      </p:pic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 type="dt" idx="43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 type="ftr" idx="44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5"/>
          <p:cNvSpPr>
            <a:spLocks noGrp="1"/>
          </p:cNvSpPr>
          <p:nvPr>
            <p:ph type="sldNum" idx="45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3CA7E-DA34-4E06-9EC5-12464342E9F6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5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926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27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28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29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0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1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2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3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4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5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6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7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8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9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40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941" name="Picture 23" descr=""/>
          <p:cNvPicPr/>
          <p:nvPr/>
        </p:nvPicPr>
        <p:blipFill>
          <a:blip r:embed="rId2"/>
          <a:stretch/>
        </p:blipFill>
        <p:spPr>
          <a:xfrm>
            <a:off x="8318520" y="6286680"/>
            <a:ext cx="857160" cy="571320"/>
          </a:xfrm>
          <a:prstGeom prst="rect">
            <a:avLst/>
          </a:prstGeom>
          <a:ln w="0">
            <a:noFill/>
          </a:ln>
        </p:spPr>
      </p:pic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 type="dt" idx="46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 type="ftr" idx="47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PlaceHolder 5"/>
          <p:cNvSpPr>
            <a:spLocks noGrp="1"/>
          </p:cNvSpPr>
          <p:nvPr>
            <p:ph type="sldNum" idx="48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13B01-E1FA-4C44-BCEC-6F86A441A5D4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3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984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85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86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87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88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89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0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1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2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3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4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5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6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7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8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999" name="Picture 23" descr=""/>
          <p:cNvPicPr/>
          <p:nvPr/>
        </p:nvPicPr>
        <p:blipFill>
          <a:blip r:embed="rId2"/>
          <a:stretch/>
        </p:blipFill>
        <p:spPr>
          <a:xfrm>
            <a:off x="8318520" y="6286680"/>
            <a:ext cx="857160" cy="571320"/>
          </a:xfrm>
          <a:prstGeom prst="rect">
            <a:avLst/>
          </a:prstGeom>
          <a:ln w="0">
            <a:noFill/>
          </a:ln>
        </p:spPr>
      </p:pic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 type="dt" idx="49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f210b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 type="ftr" idx="50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f210b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PlaceHolder 5"/>
          <p:cNvSpPr>
            <a:spLocks noGrp="1"/>
          </p:cNvSpPr>
          <p:nvPr>
            <p:ph type="sldNum" idx="51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8f210b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112CA-A706-4A3A-83F7-10A48776156D}" type="slidenum">
              <a:rPr b="0" lang="en-GB" sz="1000" spc="-1" strike="noStrike">
                <a:solidFill>
                  <a:srgbClr val="8f210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9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0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1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2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3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5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6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7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8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1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2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3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74" name="Picture 23" descr=""/>
          <p:cNvPicPr/>
          <p:nvPr/>
        </p:nvPicPr>
        <p:blipFill>
          <a:blip r:embed="rId2"/>
          <a:stretch/>
        </p:blipFill>
        <p:spPr>
          <a:xfrm>
            <a:off x="8318520" y="6286680"/>
            <a:ext cx="857160" cy="5713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dt" idx="4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ftr" idx="5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116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17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18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19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0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1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2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3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4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5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6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7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8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9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30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131" name="Picture 23" descr=""/>
          <p:cNvPicPr/>
          <p:nvPr/>
        </p:nvPicPr>
        <p:blipFill>
          <a:blip r:embed="rId2"/>
          <a:stretch/>
        </p:blipFill>
        <p:spPr>
          <a:xfrm>
            <a:off x="8318520" y="6286680"/>
            <a:ext cx="857160" cy="57132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6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7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173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4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5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6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7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8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9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0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1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2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3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4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5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6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7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188" name="Picture 23" descr=""/>
          <p:cNvPicPr/>
          <p:nvPr/>
        </p:nvPicPr>
        <p:blipFill>
          <a:blip r:embed="rId2"/>
          <a:stretch/>
        </p:blipFill>
        <p:spPr>
          <a:xfrm>
            <a:off x="8318520" y="6286680"/>
            <a:ext cx="857160" cy="57132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8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9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230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1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2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3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4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5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6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7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8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9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0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1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2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3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4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245" name="Picture 23" descr=""/>
          <p:cNvPicPr/>
          <p:nvPr/>
        </p:nvPicPr>
        <p:blipFill>
          <a:blip r:embed="rId2"/>
          <a:stretch/>
        </p:blipFill>
        <p:spPr>
          <a:xfrm>
            <a:off x="8318520" y="6286680"/>
            <a:ext cx="857160" cy="57132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0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1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2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978D7-C2E4-486D-8532-28FABDB896D6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7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288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89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0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1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2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3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4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5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6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7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8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9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00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01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02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303" name="Picture 23" descr=""/>
          <p:cNvPicPr/>
          <p:nvPr/>
        </p:nvPicPr>
        <p:blipFill>
          <a:blip r:embed="rId2"/>
          <a:stretch/>
        </p:blipFill>
        <p:spPr>
          <a:xfrm>
            <a:off x="8318520" y="6286680"/>
            <a:ext cx="857160" cy="57132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13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14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15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6CE36-21FC-45A8-AE3F-1939B407F5B7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5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346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47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48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49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0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1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2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3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4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5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6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7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8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9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60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361" name="Picture 23" descr=""/>
          <p:cNvPicPr/>
          <p:nvPr/>
        </p:nvPicPr>
        <p:blipFill>
          <a:blip r:embed="rId2"/>
          <a:stretch/>
        </p:blipFill>
        <p:spPr>
          <a:xfrm>
            <a:off x="8318520" y="6286680"/>
            <a:ext cx="857160" cy="57132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 type="dt" idx="16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 type="ftr" idx="17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 type="sldNum" idx="18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33248-2380-4E3E-81CA-0C1A999E75AB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3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404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05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06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07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08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09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0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1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2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3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4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5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6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7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8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419" name="Picture 23" descr=""/>
          <p:cNvPicPr/>
          <p:nvPr/>
        </p:nvPicPr>
        <p:blipFill>
          <a:blip r:embed="rId2"/>
          <a:stretch/>
        </p:blipFill>
        <p:spPr>
          <a:xfrm>
            <a:off x="8318520" y="6286680"/>
            <a:ext cx="857160" cy="571320"/>
          </a:xfrm>
          <a:prstGeom prst="rect">
            <a:avLst/>
          </a:prstGeom>
          <a:ln w="0">
            <a:noFill/>
          </a:ln>
        </p:spPr>
      </p:pic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19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ftr" idx="20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sldNum" idx="21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8A75C-911A-4FD5-9451-9D39C3CEFDBD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1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462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3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4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5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6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7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8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9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0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1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2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3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4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5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6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477" name="Picture 23" descr=""/>
          <p:cNvPicPr/>
          <p:nvPr/>
        </p:nvPicPr>
        <p:blipFill>
          <a:blip r:embed="rId2"/>
          <a:stretch/>
        </p:blipFill>
        <p:spPr>
          <a:xfrm>
            <a:off x="8318520" y="6286680"/>
            <a:ext cx="857160" cy="57132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22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23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24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1ADDB-C29C-4E7C-9389-4C82877E3732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4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4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6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8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9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9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9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9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9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9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9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9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7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9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4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7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BinomialConfidence" TargetMode="External"/><Relationship Id="rId2" Type="http://schemas.openxmlformats.org/officeDocument/2006/relationships/slideLayout" Target="../slideLayouts/slideLayout7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kappa" TargetMode="External"/><Relationship Id="rId2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4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4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hyperlink" Target="http://imaging.mrc-cbu.cam.ac.uk/statswiki/FAQ/BinomialConfidence/2gpp" TargetMode="External"/><Relationship Id="rId3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9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9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image" Target="../media/image40.wmf"/><Relationship Id="rId4" Type="http://schemas.openxmlformats.org/officeDocument/2006/relationships/slideLayout" Target="../slideLayouts/slideLayout14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47CB1-312F-448A-9EF1-FF64C87B215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990720" y="2438280"/>
            <a:ext cx="8416800" cy="198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RC Cognition and Brain Sciences Unit</a:t>
            </a: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 </a:t>
            </a:r>
            <a:br>
              <a:rPr sz="3600"/>
            </a:br>
            <a:r>
              <a:rPr b="0" lang="en-GB" sz="3600" spc="-1" strike="noStrike">
                <a:solidFill>
                  <a:srgbClr val="8f210b"/>
                </a:solidFill>
                <a:latin typeface="Albertus Medium"/>
              </a:rPr>
              <a:t>Graduate Statistics Course 2019</a:t>
            </a:r>
            <a:br>
              <a:rPr sz="3600"/>
            </a:br>
            <a:r>
              <a:rPr b="0" lang="en-US" sz="1800" spc="-1" strike="noStrike">
                <a:solidFill>
                  <a:srgbClr val="515f7b"/>
                </a:solidFill>
                <a:latin typeface="Verdana"/>
              </a:rPr>
              <a:t>http://imaging.mrc-cbu.cam.ac.uk/statswiki/StatsCourse2019</a:t>
            </a:r>
            <a:endParaRPr b="0" lang="en-US" sz="1800" spc="-1" strike="noStrike">
              <a:solidFill>
                <a:srgbClr val="515f7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734FF-C867-4441-A6C0-E29CE960069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Frequency Tables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bservations are classified according to some schem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numbers of observations falling into each category of the classification are called the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frequenci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C3591-A4D7-4F75-8F4D-AAC72D046F1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Visual Field Deficit Problems in Hemiplegic Patien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02" name="Picture 4" descr=""/>
          <p:cNvPicPr/>
          <p:nvPr/>
        </p:nvPicPr>
        <p:blipFill>
          <a:blip r:embed="rId1"/>
          <a:stretch/>
        </p:blipFill>
        <p:spPr>
          <a:xfrm>
            <a:off x="3943440" y="1844640"/>
            <a:ext cx="3436920" cy="44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4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5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8B6DF-4961-406E-BEB2-497B6F5C6DE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FREQUENCIE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07" name="Line 10"/>
          <p:cNvSpPr/>
          <p:nvPr/>
        </p:nvSpPr>
        <p:spPr>
          <a:xfrm flipH="1" flipV="1">
            <a:off x="6436800" y="2895120"/>
            <a:ext cx="908280" cy="762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95360" y="2133720"/>
            <a:ext cx="536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Descriptive Statistics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Frequenc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ut the variable that holds the category information into the Variables(s) box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ress OK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109" name="Picture 14" descr=""/>
          <p:cNvPicPr/>
          <p:nvPr/>
        </p:nvPicPr>
        <p:blipFill>
          <a:blip r:embed="rId1"/>
          <a:stretch/>
        </p:blipFill>
        <p:spPr>
          <a:xfrm>
            <a:off x="5611680" y="2362320"/>
            <a:ext cx="4125960" cy="23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1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2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ABE09-E966-43E6-9C12-FB1DAFBAFCB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Frequency Tab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14" name="Picture 4" descr=""/>
          <p:cNvPicPr/>
          <p:nvPr/>
        </p:nvPicPr>
        <p:blipFill>
          <a:blip r:embed="rId1"/>
          <a:stretch/>
        </p:blipFill>
        <p:spPr>
          <a:xfrm>
            <a:off x="1155600" y="1981080"/>
            <a:ext cx="8417160" cy="23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6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7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781C2-480E-49C2-956B-CBB0461BFB0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Bar chart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ing ‘Bar Chart’ from the ‘</a:t>
            </a:r>
            <a:r>
              <a:rPr b="0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C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harts’ options gives you a graphic which you can cut and paste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120" name="Picture 10" descr=""/>
          <p:cNvPicPr/>
          <p:nvPr/>
        </p:nvPicPr>
        <p:blipFill>
          <a:blip r:embed="rId1"/>
          <a:stretch/>
        </p:blipFill>
        <p:spPr>
          <a:xfrm>
            <a:off x="5199120" y="2057400"/>
            <a:ext cx="412596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2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3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8C47F-C636-4152-B0C9-DAC47644C6F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ontingency Table</a:t>
            </a: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	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329760" y="2017800"/>
            <a:ext cx="507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tems are classified by two or more classifications simultaneousl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E.g. </a:t>
            </a:r>
            <a:r>
              <a:rPr b="0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ide of Damage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 and </a:t>
            </a:r>
            <a:r>
              <a:rPr b="0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everity of Visual Field Defici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Descriptive Statistics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Crosstab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‘Side of Damage’ and ‘Visual Field Deficit’ to define the row/column categor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126" name="Picture 4" descr=""/>
          <p:cNvPicPr/>
          <p:nvPr/>
        </p:nvPicPr>
        <p:blipFill>
          <a:blip r:embed="rId1"/>
          <a:stretch/>
        </p:blipFill>
        <p:spPr>
          <a:xfrm>
            <a:off x="5599080" y="2205000"/>
            <a:ext cx="4125960" cy="32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8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9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178F6-7110-4BCF-8B36-EEDFBCA399D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ROSSTAB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31" name="Picture 4" descr=""/>
          <p:cNvPicPr/>
          <p:nvPr/>
        </p:nvPicPr>
        <p:blipFill>
          <a:blip r:embed="rId1"/>
          <a:stretch/>
        </p:blipFill>
        <p:spPr>
          <a:xfrm>
            <a:off x="1155600" y="2286000"/>
            <a:ext cx="8417160" cy="2262240"/>
          </a:xfrm>
          <a:prstGeom prst="rect">
            <a:avLst/>
          </a:prstGeom>
          <a:ln w="0">
            <a:noFill/>
          </a:ln>
        </p:spPr>
      </p:pic>
      <p:sp>
        <p:nvSpPr>
          <p:cNvPr id="1132" name="Text Box 6"/>
          <p:cNvSpPr/>
          <p:nvPr/>
        </p:nvSpPr>
        <p:spPr>
          <a:xfrm>
            <a:off x="1238400" y="4876920"/>
            <a:ext cx="792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 looks as if there may be more VFD in RBD than in LB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4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5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A9A6B-9AA6-4016-9861-7717EE40BFC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nalysing a frequency table directly from the frequencie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1"/>
          <a:stretch/>
        </p:blipFill>
        <p:spPr>
          <a:xfrm>
            <a:off x="4951440" y="1981080"/>
            <a:ext cx="4125960" cy="4114800"/>
          </a:xfrm>
          <a:prstGeom prst="rect">
            <a:avLst/>
          </a:prstGeom>
          <a:ln w="0">
            <a:noFill/>
          </a:ln>
        </p:spPr>
      </p:pic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577440" y="2133360"/>
            <a:ext cx="412596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Sometimes the observations have already been aggregated into frequenci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Enter the frequencies for each cells of the table, identified by the levels of the classifying factors.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E.g. Lexical Decision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Type: {1 = Word , 2 = Nonword}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Outcome: {1 = ‘Word’ , 2 = ‘Nonword’}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requency count for response ‘Word’ to Word items is 8.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Etc.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requencies are stored in the variable called ‘freq’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0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1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CD8BB-8AB4-48FA-B723-A178F745F14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Use ‘Weight Cases’ to analyse the frequency tab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43" name="Picture 3" descr=""/>
          <p:cNvPicPr/>
          <p:nvPr/>
        </p:nvPicPr>
        <p:blipFill>
          <a:blip r:embed="rId1"/>
          <a:stretch/>
        </p:blipFill>
        <p:spPr>
          <a:xfrm>
            <a:off x="4621320" y="2057400"/>
            <a:ext cx="4125960" cy="1417680"/>
          </a:xfrm>
          <a:prstGeom prst="rect">
            <a:avLst/>
          </a:prstGeom>
          <a:ln w="0">
            <a:noFill/>
          </a:ln>
        </p:spPr>
      </p:pic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659880" y="2286000"/>
            <a:ext cx="4125960" cy="35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Data </a:t>
            </a:r>
            <a:r>
              <a:rPr b="0" lang="en-US" sz="20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 Weight Cases …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he variable ‘freq’ contains the frequencie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6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7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F2A2D-8691-4B6D-9938-8DE14A62048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Use ‘Crosstabs’ to  generate the frequency tab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660240" y="2286000"/>
            <a:ext cx="4368960" cy="35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Cross-classification by ‘type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5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Stimulus = {Word, Non-word}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nd by ‘outcome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5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Response = {‘Word’, Non-word’}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150" name="Picture 6" descr=""/>
          <p:cNvPicPr/>
          <p:nvPr/>
        </p:nvPicPr>
        <p:blipFill>
          <a:blip r:embed="rId1"/>
          <a:stretch/>
        </p:blipFill>
        <p:spPr>
          <a:xfrm>
            <a:off x="5029200" y="2209680"/>
            <a:ext cx="4290840" cy="34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3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4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BEC29-1461-418A-A861-1E0F2F19C8D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4: Categorical Data Analysi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56" name="Text Box 1029"/>
          <p:cNvSpPr/>
          <p:nvPr/>
        </p:nvSpPr>
        <p:spPr>
          <a:xfrm>
            <a:off x="1320840" y="2362320"/>
            <a:ext cx="81691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f210b"/>
                </a:solidFill>
                <a:latin typeface="Albertus Medium"/>
              </a:rPr>
              <a:t>Categorical Data, Contingency Tables and the Pearson Chi-Squared Statistic</a:t>
            </a:r>
            <a:endParaRPr b="0" lang="en-US" sz="3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7" name="Text Box 1030"/>
          <p:cNvSpPr/>
          <p:nvPr/>
        </p:nvSpPr>
        <p:spPr>
          <a:xfrm>
            <a:off x="1486080" y="3505320"/>
            <a:ext cx="7839000" cy="27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f210b"/>
                </a:solidFill>
                <a:latin typeface="Albertus Medium"/>
              </a:rPr>
              <a:t>Peter Watso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f210b"/>
                </a:solidFill>
                <a:latin typeface="Albertus Medium"/>
              </a:rPr>
              <a:t>(with thanks to Ian Nimmo-Smith)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25 October 2018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cdaFAQ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2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3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E3386-325F-43C2-84E2-C55966980C7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imple use of SPSS Crosstab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55" name="Picture 3" descr=""/>
          <p:cNvPicPr/>
          <p:nvPr/>
        </p:nvPicPr>
        <p:blipFill>
          <a:blip r:embed="rId1"/>
          <a:stretch/>
        </p:blipFill>
        <p:spPr>
          <a:xfrm>
            <a:off x="5281560" y="2590920"/>
            <a:ext cx="3979800" cy="1463400"/>
          </a:xfrm>
          <a:prstGeom prst="rect">
            <a:avLst/>
          </a:prstGeom>
          <a:ln w="0">
            <a:noFill/>
          </a:ln>
        </p:spPr>
      </p:pic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577440" y="213372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ord recognition looks quite good (80%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But Non-word rejection is low (50%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8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9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F30D0-AC03-470A-A447-FBB7B1E70A1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Goodness-of-Fit Chi-squared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uppose we have a Theor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.e. a ‘model’ that predicts the expected frequencies (E) in each categor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e actually observe the frequencies (O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e measure how good a fit the data are to the theory by the formula: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X</a:t>
            </a:r>
            <a:r>
              <a:rPr b="0" lang="en-US" sz="24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= </a:t>
            </a:r>
            <a:r>
              <a:rPr b="0" lang="en-US" sz="3200" spc="-1" strike="noStrike">
                <a:solidFill>
                  <a:srgbClr val="8f210b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(O-E)</a:t>
            </a:r>
            <a:r>
              <a:rPr b="0" lang="en-US" sz="24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/E where the sum is over all the categor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s is called Pearson’s Chi-Squared Statistic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3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4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A289F-F8AE-40C5-A52D-FED93249D2A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ignificanc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Large values of X</a:t>
            </a:r>
            <a:r>
              <a:rPr b="0" lang="en-US" sz="2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suggest the model doesn’t fit the data wel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his leads to Goodness-of-fit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e look at the value of X</a:t>
            </a:r>
            <a:r>
              <a:rPr b="0" lang="en-US" sz="2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and see whether it is unusually large by reference to a </a:t>
            </a:r>
            <a:r>
              <a:rPr b="0" lang="en-US" sz="3600" spc="-1" strike="noStrike">
                <a:solidFill>
                  <a:srgbClr val="8f210b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38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3200" spc="-1" strike="noStrike">
                <a:solidFill>
                  <a:srgbClr val="8f210b"/>
                </a:solidFill>
                <a:latin typeface="Albertus Medium"/>
              </a:rPr>
              <a:t>-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distribution with k-1 degrees-of-freedom where k is the number of categories in the classific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8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9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264BD-5462-4985-91CE-42ED1DAF611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‘</a:t>
            </a: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Degrees of Freedom’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n elusive concept that occurs throughout statistics. In essence it means the number of independent pieces of information in a sample relevant to the estimation of some parameters or calculation of a statistic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5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For example in a two-by-two contingency table with a given set of marginal totals only 1 of the cells at a time is ‘free’ -- once it is specified all the others are determined -- and the table thus has a single degree of freedom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he important point here is we can only interpret X</a:t>
            </a:r>
            <a:r>
              <a:rPr b="0" lang="en-US" sz="2000" spc="-1" strike="noStrike" baseline="40000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if we also know its degrees of freedom, as we see later when we look at the chi-squared distribution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3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4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8F281-5EA8-490D-A223-65B843C065A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Degrees of Freedom = 1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176" name=""/>
          <p:cNvGraphicFramePr/>
          <p:nvPr/>
        </p:nvGraphicFramePr>
        <p:xfrm>
          <a:off x="1281240" y="2017800"/>
          <a:ext cx="8416800" cy="4114800"/>
        </p:xfrm>
        <a:graphic>
          <a:graphicData uri="http://schemas.openxmlformats.org/drawingml/2006/table">
            <a:tbl>
              <a:tblPr/>
              <a:tblGrid>
                <a:gridCol w="2805120"/>
                <a:gridCol w="2806560"/>
                <a:gridCol w="2805120"/>
              </a:tblGrid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0-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1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3-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-3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2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1 Total = 13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3 Total = 7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Table Total = 2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8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9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CE179-BE7B-4D3F-91D3-FBF578F317B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Degrees of Freedom = 4 (#rows-1) times (#cols -1)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181" name=""/>
          <p:cNvGraphicFramePr/>
          <p:nvPr/>
        </p:nvGraphicFramePr>
        <p:xfrm>
          <a:off x="487440" y="2017800"/>
          <a:ext cx="9210600" cy="4114800"/>
        </p:xfrm>
        <a:graphic>
          <a:graphicData uri="http://schemas.openxmlformats.org/drawingml/2006/table">
            <a:tbl>
              <a:tblPr/>
              <a:tblGrid>
                <a:gridCol w="2303280"/>
                <a:gridCol w="2301840"/>
                <a:gridCol w="2303640"/>
                <a:gridCol w="2301840"/>
              </a:tblGrid>
              <a:tr h="102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y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0-x-y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1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u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v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0-u-v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2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2-x-u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7-y-v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+y+u+v-9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3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1 Total = 12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2 Total = 7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3 Total = 11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Table Total = 3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83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84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F2310-1D29-4986-B56F-937DCB63C50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olman, Ritchie and Kalish (1946)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/>
          </p:nvPr>
        </p:nvSpPr>
        <p:spPr>
          <a:xfrm>
            <a:off x="1066320" y="1904760"/>
            <a:ext cx="413244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lace learning in ra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grpSp>
        <p:nvGrpSpPr>
          <p:cNvPr id="1187" name="Group 1062"/>
          <p:cNvGrpSpPr/>
          <p:nvPr/>
        </p:nvGrpSpPr>
        <p:grpSpPr>
          <a:xfrm>
            <a:off x="914400" y="2971800"/>
            <a:ext cx="3341880" cy="3263760"/>
            <a:chOff x="914400" y="2971800"/>
            <a:chExt cx="3341880" cy="3263760"/>
          </a:xfrm>
        </p:grpSpPr>
        <p:grpSp>
          <p:nvGrpSpPr>
            <p:cNvPr id="1188" name="Group 1058"/>
            <p:cNvGrpSpPr/>
            <p:nvPr/>
          </p:nvGrpSpPr>
          <p:grpSpPr>
            <a:xfrm>
              <a:off x="914400" y="2971800"/>
              <a:ext cx="3341880" cy="2819160"/>
              <a:chOff x="914400" y="2971800"/>
              <a:chExt cx="3341880" cy="2819160"/>
            </a:xfrm>
          </p:grpSpPr>
          <p:sp>
            <p:nvSpPr>
              <p:cNvPr id="1189" name="Oval 1033"/>
              <p:cNvSpPr/>
              <p:nvPr/>
            </p:nvSpPr>
            <p:spPr>
              <a:xfrm>
                <a:off x="914400" y="4267080"/>
                <a:ext cx="1447920" cy="1523880"/>
              </a:xfrm>
              <a:prstGeom prst="ellipse">
                <a:avLst/>
              </a:prstGeom>
              <a:noFill/>
              <a:ln w="9360">
                <a:solidFill>
                  <a:srgbClr val="8f210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buClr>
                    <a:srgbClr val="a3ce82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  <p:sp>
            <p:nvSpPr>
              <p:cNvPr id="1190" name="AutoShape 1034"/>
              <p:cNvSpPr/>
              <p:nvPr/>
            </p:nvSpPr>
            <p:spPr>
              <a:xfrm>
                <a:off x="1524240" y="2971800"/>
                <a:ext cx="1904760" cy="1295280"/>
              </a:xfrm>
              <a:custGeom>
                <a:avLst/>
                <a:gdLst>
                  <a:gd name="textAreaLeft" fmla="*/ 1095120 w 1904760"/>
                  <a:gd name="textAreaRight" fmla="*/ 1841400 w 1904760"/>
                  <a:gd name="textAreaTop" fmla="*/ 290520 h 1295280"/>
                  <a:gd name="textAreaBottom" fmla="*/ 438120 h 1295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6079"/>
                    </a:moveTo>
                    <a:lnTo>
                      <a:pt x="18078" y="0"/>
                    </a:lnTo>
                    <a:lnTo>
                      <a:pt x="18078" y="4846"/>
                    </a:lnTo>
                    <a:lnTo>
                      <a:pt x="12427" y="4846"/>
                    </a:lnTo>
                    <a:cubicBezTo>
                      <a:pt x="5564" y="4846"/>
                      <a:pt x="0" y="8120"/>
                      <a:pt x="0" y="12158"/>
                    </a:cubicBezTo>
                    <a:lnTo>
                      <a:pt x="0" y="21600"/>
                    </a:lnTo>
                    <a:lnTo>
                      <a:pt x="2521" y="21600"/>
                    </a:lnTo>
                    <a:lnTo>
                      <a:pt x="2521" y="12158"/>
                    </a:lnTo>
                    <a:cubicBezTo>
                      <a:pt x="2521" y="9482"/>
                      <a:pt x="6956" y="7312"/>
                      <a:pt x="12427" y="7312"/>
                    </a:cubicBezTo>
                    <a:lnTo>
                      <a:pt x="18078" y="7312"/>
                    </a:lnTo>
                    <a:lnTo>
                      <a:pt x="18078" y="12158"/>
                    </a:lnTo>
                    <a:lnTo>
                      <a:pt x="21600" y="6079"/>
                    </a:lnTo>
                    <a:close/>
                  </a:path>
                </a:pathLst>
              </a:custGeom>
              <a:noFill/>
              <a:ln w="9360">
                <a:solidFill>
                  <a:srgbClr val="8f210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  <p:sp>
            <p:nvSpPr>
              <p:cNvPr id="1191" name="Text Box 1035"/>
              <p:cNvSpPr/>
              <p:nvPr/>
            </p:nvSpPr>
            <p:spPr>
              <a:xfrm>
                <a:off x="3094560" y="3047760"/>
                <a:ext cx="1161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700"/>
                  </a:spcBef>
                  <a:buClr>
                    <a:srgbClr val="a3ce82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8f210b"/>
                    </a:solidFill>
                    <a:latin typeface="Albertus Medium"/>
                  </a:rPr>
                  <a:t>Food</a:t>
                </a:r>
                <a:endParaRPr b="0" lang="en-US" sz="2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  <p:sp>
            <p:nvSpPr>
              <p:cNvPr id="1192" name="Text Box 1057"/>
              <p:cNvSpPr/>
              <p:nvPr/>
            </p:nvSpPr>
            <p:spPr>
              <a:xfrm>
                <a:off x="1467000" y="3200400"/>
                <a:ext cx="326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8f210b"/>
                    </a:solidFill>
                    <a:latin typeface="Albertus Medium"/>
                  </a:rPr>
                  <a:t>A</a:t>
                </a:r>
                <a:endParaRPr b="0" lang="en-US" sz="1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</p:grpSp>
        <p:sp>
          <p:nvSpPr>
            <p:cNvPr id="1193" name="Text Box 1060"/>
            <p:cNvSpPr/>
            <p:nvPr/>
          </p:nvSpPr>
          <p:spPr>
            <a:xfrm>
              <a:off x="2142000" y="5715000"/>
              <a:ext cx="1629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00"/>
                </a:spcBef>
                <a:buClr>
                  <a:srgbClr val="a3ce82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8f210b"/>
                  </a:solidFill>
                  <a:latin typeface="Albertus Medium"/>
                </a:rPr>
                <a:t>Phase 1</a:t>
              </a: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grpSp>
        <p:nvGrpSpPr>
          <p:cNvPr id="1194" name="Group 1067"/>
          <p:cNvGrpSpPr/>
          <p:nvPr/>
        </p:nvGrpSpPr>
        <p:grpSpPr>
          <a:xfrm>
            <a:off x="4469760" y="2590920"/>
            <a:ext cx="5128200" cy="3582720"/>
            <a:chOff x="4469760" y="2590920"/>
            <a:chExt cx="5128200" cy="3582720"/>
          </a:xfrm>
        </p:grpSpPr>
        <p:grpSp>
          <p:nvGrpSpPr>
            <p:cNvPr id="1195" name="Group 1064"/>
            <p:cNvGrpSpPr/>
            <p:nvPr/>
          </p:nvGrpSpPr>
          <p:grpSpPr>
            <a:xfrm>
              <a:off x="4572000" y="2590920"/>
              <a:ext cx="5025960" cy="3582720"/>
              <a:chOff x="4572000" y="2590920"/>
              <a:chExt cx="5025960" cy="3582720"/>
            </a:xfrm>
          </p:grpSpPr>
          <p:sp>
            <p:nvSpPr>
              <p:cNvPr id="1196" name="Text Box 1046"/>
              <p:cNvSpPr/>
              <p:nvPr/>
            </p:nvSpPr>
            <p:spPr>
              <a:xfrm>
                <a:off x="7696080" y="3886200"/>
                <a:ext cx="190188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8f210b"/>
                    </a:solidFill>
                    <a:latin typeface="Albertus Medium"/>
                  </a:rPr>
                  <a:t>D: New alley to original food source</a:t>
                </a:r>
                <a:endParaRPr b="0" lang="en-US" sz="1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  <p:grpSp>
            <p:nvGrpSpPr>
              <p:cNvPr id="1197" name="Group 1063"/>
              <p:cNvGrpSpPr/>
              <p:nvPr/>
            </p:nvGrpSpPr>
            <p:grpSpPr>
              <a:xfrm>
                <a:off x="4572000" y="2590920"/>
                <a:ext cx="3798720" cy="3582720"/>
                <a:chOff x="4572000" y="2590920"/>
                <a:chExt cx="3798720" cy="3582720"/>
              </a:xfrm>
            </p:grpSpPr>
            <p:grpSp>
              <p:nvGrpSpPr>
                <p:cNvPr id="1198" name="Group 1059"/>
                <p:cNvGrpSpPr/>
                <p:nvPr/>
              </p:nvGrpSpPr>
              <p:grpSpPr>
                <a:xfrm>
                  <a:off x="4572000" y="2590920"/>
                  <a:ext cx="3798720" cy="3352680"/>
                  <a:chOff x="4572000" y="2590920"/>
                  <a:chExt cx="3798720" cy="3352680"/>
                </a:xfrm>
              </p:grpSpPr>
              <p:sp>
                <p:nvSpPr>
                  <p:cNvPr id="1199" name="Oval 1038"/>
                  <p:cNvSpPr/>
                  <p:nvPr/>
                </p:nvSpPr>
                <p:spPr>
                  <a:xfrm>
                    <a:off x="4876560" y="4419720"/>
                    <a:ext cx="1447920" cy="1523880"/>
                  </a:xfrm>
                  <a:prstGeom prst="ellipse">
                    <a:avLst/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0" name="AutoShape 1040"/>
                  <p:cNvSpPr/>
                  <p:nvPr/>
                </p:nvSpPr>
                <p:spPr>
                  <a:xfrm rot="20100000">
                    <a:off x="4952520" y="3809880"/>
                    <a:ext cx="380880" cy="762120"/>
                  </a:xfrm>
                  <a:prstGeom prst="upArrow">
                    <a:avLst>
                      <a:gd name="adj1" fmla="val 46259"/>
                      <a:gd name="adj2" fmla="val 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1" name="AutoShape 1041"/>
                  <p:cNvSpPr/>
                  <p:nvPr/>
                </p:nvSpPr>
                <p:spPr>
                  <a:xfrm rot="1500000">
                    <a:off x="5943600" y="3809520"/>
                    <a:ext cx="304560" cy="762120"/>
                  </a:xfrm>
                  <a:prstGeom prst="upArrow">
                    <a:avLst>
                      <a:gd name="adj1" fmla="val 60111"/>
                      <a:gd name="adj2" fmla="val 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2" name="AutoShape 1042"/>
                  <p:cNvSpPr/>
                  <p:nvPr/>
                </p:nvSpPr>
                <p:spPr>
                  <a:xfrm>
                    <a:off x="5467320" y="3705120"/>
                    <a:ext cx="304560" cy="762120"/>
                  </a:xfrm>
                  <a:prstGeom prst="upArrow">
                    <a:avLst>
                      <a:gd name="adj1" fmla="val 60111"/>
                      <a:gd name="adj2" fmla="val 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3" name="AutoShape 1043"/>
                  <p:cNvSpPr/>
                  <p:nvPr/>
                </p:nvSpPr>
                <p:spPr>
                  <a:xfrm rot="2700000">
                    <a:off x="6666840" y="3086280"/>
                    <a:ext cx="457200" cy="2057400"/>
                  </a:xfrm>
                  <a:prstGeom prst="upArrow">
                    <a:avLst>
                      <a:gd name="adj1" fmla="val 50000"/>
                      <a:gd name="adj2" fmla="val 11250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4" name="Text Box 1045"/>
                  <p:cNvSpPr/>
                  <p:nvPr/>
                </p:nvSpPr>
                <p:spPr>
                  <a:xfrm>
                    <a:off x="7209000" y="3352680"/>
                    <a:ext cx="116172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Food</a:t>
                    </a: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5" name="Text Box 1047"/>
                  <p:cNvSpPr/>
                  <p:nvPr/>
                </p:nvSpPr>
                <p:spPr>
                  <a:xfrm>
                    <a:off x="5505480" y="3276720"/>
                    <a:ext cx="3268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A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6" name="Text Box 1048"/>
                  <p:cNvSpPr/>
                  <p:nvPr/>
                </p:nvSpPr>
                <p:spPr>
                  <a:xfrm>
                    <a:off x="6103080" y="3505320"/>
                    <a:ext cx="32544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C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7" name="Text Box 1049"/>
                  <p:cNvSpPr/>
                  <p:nvPr/>
                </p:nvSpPr>
                <p:spPr>
                  <a:xfrm>
                    <a:off x="4572000" y="3505320"/>
                    <a:ext cx="4600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B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8" name="Text Box 1052"/>
                  <p:cNvSpPr/>
                  <p:nvPr/>
                </p:nvSpPr>
                <p:spPr>
                  <a:xfrm>
                    <a:off x="7465680" y="3048120"/>
                    <a:ext cx="3484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D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9" name="Line 1053"/>
                  <p:cNvSpPr/>
                  <p:nvPr/>
                </p:nvSpPr>
                <p:spPr>
                  <a:xfrm flipH="1" flipV="1">
                    <a:off x="7009920" y="4114800"/>
                    <a:ext cx="685800" cy="533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10" name="Text Box 1054"/>
                  <p:cNvSpPr/>
                  <p:nvPr/>
                </p:nvSpPr>
                <p:spPr>
                  <a:xfrm>
                    <a:off x="5140800" y="2590920"/>
                    <a:ext cx="10296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Blocked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11" name="Line 1056"/>
                  <p:cNvSpPr/>
                  <p:nvPr/>
                </p:nvSpPr>
                <p:spPr>
                  <a:xfrm>
                    <a:off x="5410080" y="2895480"/>
                    <a:ext cx="228600" cy="838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</p:grpSp>
            <p:sp>
              <p:nvSpPr>
                <p:cNvPr id="1212" name="Text Box 1061"/>
                <p:cNvSpPr/>
                <p:nvPr/>
              </p:nvSpPr>
              <p:spPr>
                <a:xfrm>
                  <a:off x="6210720" y="5653080"/>
                  <a:ext cx="16297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700"/>
                    </a:spcBef>
                    <a:buClr>
                      <a:srgbClr val="a3ce82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8f210b"/>
                      </a:solidFill>
                      <a:latin typeface="Albertus Medium"/>
                    </a:rPr>
                    <a:t>Phase 2</a:t>
                  </a:r>
                  <a:endParaRPr b="0" lang="en-US" sz="2800" spc="-1" strike="noStrike">
                    <a:solidFill>
                      <a:srgbClr val="8f210b"/>
                    </a:solidFill>
                    <a:latin typeface="Albertus Medium"/>
                  </a:endParaRPr>
                </a:p>
              </p:txBody>
            </p:sp>
          </p:grpSp>
        </p:grpSp>
        <p:sp>
          <p:nvSpPr>
            <p:cNvPr id="1213" name="Text Box 1065"/>
            <p:cNvSpPr/>
            <p:nvPr/>
          </p:nvSpPr>
          <p:spPr>
            <a:xfrm>
              <a:off x="4469760" y="3186000"/>
              <a:ext cx="60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f210b"/>
                  </a:solidFill>
                  <a:latin typeface="Albertus Medium"/>
                </a:rPr>
                <a:t>New</a:t>
              </a:r>
              <a:endParaRPr b="0" lang="en-US" sz="16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14" name="Text Box 1066"/>
            <p:cNvSpPr/>
            <p:nvPr/>
          </p:nvSpPr>
          <p:spPr>
            <a:xfrm>
              <a:off x="5954040" y="3200400"/>
              <a:ext cx="60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f210b"/>
                  </a:solidFill>
                  <a:latin typeface="Albertus Medium"/>
                </a:rPr>
                <a:t>New</a:t>
              </a:r>
              <a:endParaRPr b="0" lang="en-US" sz="16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6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7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C7E49-369E-4E9D-B89D-DFD00C71523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d Goodness of Fit Test by hand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1280880" y="3123720"/>
            <a:ext cx="8126280" cy="30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Tolman, Ritchie and Kalish (1946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X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=(4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+(5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+(8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+(15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 = 9.25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The 95% percentile of the </a:t>
            </a:r>
            <a:r>
              <a:rPr b="0" lang="en-US" sz="1800" spc="-1" strike="noStrike">
                <a:solidFill>
                  <a:srgbClr val="8f210b"/>
                </a:solidFill>
                <a:latin typeface="Symbol"/>
                <a:ea typeface="Symbol"/>
              </a:rPr>
              <a:t>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(3) distribution is 7.82 (from table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499"/>
              </a:spcBef>
              <a:spcAft>
                <a:spcPts val="499"/>
              </a:spcAft>
              <a:buClr>
                <a:srgbClr val="ee92b7"/>
              </a:buClr>
              <a:buSzPct val="5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P &lt; 0.05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499"/>
              </a:spcBef>
              <a:spcAft>
                <a:spcPts val="499"/>
              </a:spcAft>
              <a:buClr>
                <a:srgbClr val="ee92b7"/>
              </a:buClr>
              <a:buSzPct val="5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Exact P = 0.0261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499"/>
              </a:spcBef>
              <a:spcAft>
                <a:spcPts val="499"/>
              </a:spcAft>
              <a:buClr>
                <a:srgbClr val="a3dc96"/>
              </a:buClr>
              <a:buSzPct val="50000"/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f210b"/>
                </a:solidFill>
                <a:latin typeface="Albertus Medium"/>
              </a:rPr>
              <a:t>Via MATLAB: 1-chi2cdf(9.25,3)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We reject the Null Hypothesis that Alleys are chosen equiprobably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220" name="Object 1030"/>
          <p:cNvGraphicFramePr/>
          <p:nvPr/>
        </p:nvGraphicFramePr>
        <p:xfrm>
          <a:off x="1733400" y="1981080"/>
          <a:ext cx="4125960" cy="2484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21" name="Object 103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33400" y="1981080"/>
                    <a:ext cx="4125960" cy="24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3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4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5F4C9-C8CD-42D5-B825-A01E39EE35C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Enter the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lley’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51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nomin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349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1,2,3,4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choices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51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frequencie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349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4,5,8,15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27" name="Picture 1031" descr=""/>
          <p:cNvPicPr/>
          <p:nvPr/>
        </p:nvPicPr>
        <p:blipFill>
          <a:blip r:embed="rId1"/>
          <a:stretch/>
        </p:blipFill>
        <p:spPr>
          <a:xfrm>
            <a:off x="5694480" y="2133720"/>
            <a:ext cx="318744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9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0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BAD16-B0B7-4BC6-BAC6-A946C8BFD77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Give the alleys label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1 = ‘A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2 = ‘B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etc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33" name="Picture 5" descr=""/>
          <p:cNvPicPr/>
          <p:nvPr/>
        </p:nvPicPr>
        <p:blipFill>
          <a:blip r:embed="rId1"/>
          <a:stretch/>
        </p:blipFill>
        <p:spPr>
          <a:xfrm>
            <a:off x="6024600" y="2209680"/>
            <a:ext cx="2701800" cy="12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6077F-16A7-480C-86AC-82AFF84D38B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The Naming of Part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ategorical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requency Tabl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hi-Squared Goodness-of-Fit 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hi-squared Distribu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Binomial 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hi-squared test for associa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impson, Cohen and McNemar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5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6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3BBFC-492A-42DE-9404-3F8BBCBE7B8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Data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Weight Cases 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‘choices’ as this contains the frequency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39" name="Picture 1030" descr=""/>
          <p:cNvPicPr/>
          <p:nvPr/>
        </p:nvPicPr>
        <p:blipFill>
          <a:blip r:embed="rId1"/>
          <a:stretch/>
        </p:blipFill>
        <p:spPr>
          <a:xfrm>
            <a:off x="5364000" y="2514600"/>
            <a:ext cx="3970440" cy="13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1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2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E1DA4-425A-4D62-88E6-E1A3949D5E9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Non-parametric statistics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Chi-square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Enter the hypothetical probabilities 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r the expected frequenc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45" name="Picture 5" descr=""/>
          <p:cNvPicPr/>
          <p:nvPr/>
        </p:nvPicPr>
        <p:blipFill>
          <a:blip r:embed="rId1"/>
          <a:stretch/>
        </p:blipFill>
        <p:spPr>
          <a:xfrm>
            <a:off x="4951440" y="1371600"/>
            <a:ext cx="4019400" cy="2327400"/>
          </a:xfrm>
          <a:prstGeom prst="rect">
            <a:avLst/>
          </a:prstGeom>
          <a:ln w="0">
            <a:noFill/>
          </a:ln>
        </p:spPr>
      </p:pic>
      <p:pic>
        <p:nvPicPr>
          <p:cNvPr id="1246" name="Picture 6" descr=""/>
          <p:cNvPicPr/>
          <p:nvPr/>
        </p:nvPicPr>
        <p:blipFill>
          <a:blip r:embed="rId2"/>
          <a:stretch/>
        </p:blipFill>
        <p:spPr>
          <a:xfrm>
            <a:off x="4648320" y="3429000"/>
            <a:ext cx="5013360" cy="29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Date Placeholder 2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8" name="Footer Placeholder 3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9" name="Slide Number Placeholder 4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9159F-3F19-41F5-A3B3-2E659E06944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Output from Chi-Square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51" name="Rectangle 4"/>
          <p:cNvSpPr/>
          <p:nvPr/>
        </p:nvSpPr>
        <p:spPr>
          <a:xfrm>
            <a:off x="2313360" y="1981080"/>
            <a:ext cx="251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i-Square 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52" name="Picture 5" descr=""/>
          <p:cNvPicPr/>
          <p:nvPr/>
        </p:nvPicPr>
        <p:blipFill>
          <a:blip r:embed="rId1"/>
          <a:stretch/>
        </p:blipFill>
        <p:spPr>
          <a:xfrm>
            <a:off x="2394000" y="2590920"/>
            <a:ext cx="3870360" cy="1636560"/>
          </a:xfrm>
          <a:prstGeom prst="rect">
            <a:avLst/>
          </a:prstGeom>
          <a:ln w="0">
            <a:noFill/>
          </a:ln>
        </p:spPr>
      </p:pic>
      <p:pic>
        <p:nvPicPr>
          <p:cNvPr id="1253" name="Picture 6" descr=""/>
          <p:cNvPicPr/>
          <p:nvPr/>
        </p:nvPicPr>
        <p:blipFill>
          <a:blip r:embed="rId2"/>
          <a:stretch/>
        </p:blipFill>
        <p:spPr>
          <a:xfrm>
            <a:off x="2394000" y="4419720"/>
            <a:ext cx="3662280" cy="146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5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6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173D2-F5D9-4384-AE86-BD1AB72C6E3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d (</a:t>
            </a:r>
            <a:r>
              <a:rPr b="0" lang="en-US" sz="4400" spc="-1" strike="noStrike">
                <a:solidFill>
                  <a:srgbClr val="515f7b"/>
                </a:solidFill>
                <a:latin typeface="Symbol"/>
                <a:ea typeface="Symbol"/>
              </a:rPr>
              <a:t></a:t>
            </a:r>
            <a:r>
              <a:rPr b="0" lang="en-US" sz="4000" spc="-1" strike="noStrike" baseline="38000">
                <a:solidFill>
                  <a:srgbClr val="515f7b"/>
                </a:solidFill>
                <a:latin typeface="Albertus Medium"/>
              </a:rPr>
              <a:t>2</a:t>
            </a: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) Distribution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258" name="Picture 7" descr="chisquared"/>
          <p:cNvPicPr/>
          <p:nvPr/>
        </p:nvPicPr>
        <p:blipFill>
          <a:blip r:embed="rId1"/>
          <a:stretch/>
        </p:blipFill>
        <p:spPr>
          <a:xfrm>
            <a:off x="4703760" y="2057400"/>
            <a:ext cx="5010120" cy="3429000"/>
          </a:xfrm>
          <a:prstGeom prst="rect">
            <a:avLst/>
          </a:prstGeom>
          <a:ln w="0">
            <a:noFill/>
          </a:ln>
        </p:spPr>
      </p:pic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412920" y="1981080"/>
            <a:ext cx="412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hape determined by ‘degrees of freedom’ (df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J-shaped for df = 1 or 2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nimodal for df &gt; 2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Mode = df - 2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ean = df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1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2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734AB-4ADB-4EBC-991B-E713A6F4809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hance performance and the Binomial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n a multiple choice tes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2-alternative forced choice (2AFC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p(correct) = p(error) = 0.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4AFC 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p(correct) = 0.25, p(error) = 0.7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as the subject just guessing when she got 14/20 in a 2AFC test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6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7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FF359-D605-40D6-8A8B-CEFAF4FBF9E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Binomial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412920" y="2133720"/>
            <a:ext cx="412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Non-Parametric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Binomial Test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70" name="Picture 5" descr=""/>
          <p:cNvPicPr/>
          <p:nvPr/>
        </p:nvPicPr>
        <p:blipFill>
          <a:blip r:embed="rId1"/>
          <a:stretch/>
        </p:blipFill>
        <p:spPr>
          <a:xfrm>
            <a:off x="4869000" y="2590920"/>
            <a:ext cx="439416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Date Placeholder 2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2" name="Footer Placeholder 3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3" name="Slide Number Placeholder 4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86375-493A-4636-B6A8-871677A5380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Output of Binomial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275" name="Picture 3" descr=""/>
          <p:cNvPicPr/>
          <p:nvPr/>
        </p:nvPicPr>
        <p:blipFill>
          <a:blip r:embed="rId1"/>
          <a:stretch/>
        </p:blipFill>
        <p:spPr>
          <a:xfrm>
            <a:off x="2228760" y="2133720"/>
            <a:ext cx="6297840" cy="1261800"/>
          </a:xfrm>
          <a:prstGeom prst="rect">
            <a:avLst/>
          </a:prstGeom>
          <a:ln w="0">
            <a:noFill/>
          </a:ln>
        </p:spPr>
      </p:pic>
      <p:sp>
        <p:nvSpPr>
          <p:cNvPr id="1276" name="Text Box 4"/>
          <p:cNvSpPr/>
          <p:nvPr/>
        </p:nvSpPr>
        <p:spPr>
          <a:xfrm>
            <a:off x="1303200" y="3952800"/>
            <a:ext cx="7691400" cy="23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data (14/20) are consistent with chance performanc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nfidence interval approach can be a more informative alternativ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Date Placeholder 2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8" name="Footer Placeholder 3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9" name="Slide Number Placeholder 4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9980E-76B5-4509-8CE8-3445B28D90A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onfidence Intervals for Binomial Proportion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81" name="Text Box 4"/>
          <p:cNvSpPr/>
          <p:nvPr/>
        </p:nvSpPr>
        <p:spPr>
          <a:xfrm>
            <a:off x="907920" y="2438280"/>
            <a:ext cx="769140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X=14, N=20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95% CI (WALD)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(0.499,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0.901)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95% CI (WILSON)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(0.481,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0.855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Consistent with the P values, the Confidence Interval only </a:t>
            </a:r>
            <a:r>
              <a:rPr b="1" i="1" lang="en-US" sz="2000" spc="-1" strike="noStrike">
                <a:solidFill>
                  <a:srgbClr val="000000"/>
                </a:solidFill>
                <a:latin typeface="Albertus Medium"/>
              </a:rPr>
              <a:t>just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 includes 0.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lbertus Medium"/>
              </a:rPr>
              <a:t>(Calculated using a spreadsheet available on the CBU statistics website at </a:t>
            </a:r>
            <a:r>
              <a:rPr b="1" lang="en-US" sz="1600" spc="-1" strike="noStrike" u="sng">
                <a:solidFill>
                  <a:srgbClr val="a3ce82"/>
                </a:solidFill>
                <a:uFillTx/>
                <a:latin typeface="Times New Roman"/>
                <a:hlinkClick r:id="rId1"/>
              </a:rPr>
              <a:t>http://imaging.mrc-cbu.cam.ac.uk/statswiki/FAQ/BinomialConfidence</a:t>
            </a:r>
            <a:r>
              <a:rPr b="1" lang="en-US" sz="1600" spc="-1" strike="noStrike">
                <a:solidFill>
                  <a:srgbClr val="000000"/>
                </a:solidFill>
                <a:latin typeface="Albertus Medium"/>
              </a:rPr>
              <a:t>. which also features a similar solution to the difference in two (in)dependent proportions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3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4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46A45-7528-4D01-BC4B-ED7BB70BB0D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Noah’s Ark, </a:t>
            </a:r>
            <a:r>
              <a:rPr b="0" lang="en-US" sz="2000" spc="-1" strike="noStrike">
                <a:solidFill>
                  <a:srgbClr val="515f7b"/>
                </a:solidFill>
                <a:latin typeface="Albertus Medium"/>
              </a:rPr>
              <a:t>or The World of Two by Two</a:t>
            </a:r>
            <a:endParaRPr b="0" lang="en-US" sz="20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earson’s Chi-square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Yates’ Continuity Correc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sher’s Exact Tes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dds and Odds Ratio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log odds and log odds ratio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nsitivity and Specificit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Gerd Gigerenzer (2002). </a:t>
            </a:r>
            <a:r>
              <a:rPr b="0" i="1" lang="en-US" sz="2400" spc="-1" strike="noStrike">
                <a:solidFill>
                  <a:srgbClr val="8f210b"/>
                </a:solidFill>
                <a:latin typeface="Albertus Medium"/>
              </a:rPr>
              <a:t>Reckoning with Risk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, Pengui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ignal Detection Theor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87" name="Picture 6" descr=""/>
          <p:cNvPicPr/>
          <p:nvPr/>
        </p:nvPicPr>
        <p:blipFill>
          <a:blip r:embed="rId1"/>
          <a:stretch/>
        </p:blipFill>
        <p:spPr>
          <a:xfrm>
            <a:off x="7467480" y="2743200"/>
            <a:ext cx="1197000" cy="184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Date Placeholder 2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9" name="Footer Placeholder 3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0" name="Slide Number Placeholder 4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A683A-6E5B-4965-9E2F-8779FB20AE1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ignal Detection Theory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292" name="Picture 3" descr=""/>
          <p:cNvPicPr/>
          <p:nvPr/>
        </p:nvPicPr>
        <p:blipFill>
          <a:blip r:embed="rId1"/>
          <a:stretch/>
        </p:blipFill>
        <p:spPr>
          <a:xfrm>
            <a:off x="4648320" y="1905120"/>
            <a:ext cx="3921120" cy="2654280"/>
          </a:xfrm>
          <a:prstGeom prst="rect">
            <a:avLst/>
          </a:prstGeom>
          <a:ln w="0">
            <a:noFill/>
          </a:ln>
        </p:spPr>
      </p:pic>
      <p:sp>
        <p:nvSpPr>
          <p:cNvPr id="1293" name="Text Box 4"/>
          <p:cNvSpPr/>
          <p:nvPr/>
        </p:nvSpPr>
        <p:spPr>
          <a:xfrm>
            <a:off x="457200" y="2590920"/>
            <a:ext cx="3200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8f210b"/>
                </a:solidFill>
                <a:latin typeface="Verdana"/>
              </a:rPr>
              <a:t>Example 2a from Macmillan &amp; Creelman, 1991, p.31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94" name="Picture 5" descr=""/>
          <p:cNvPicPr/>
          <p:nvPr/>
        </p:nvPicPr>
        <p:blipFill>
          <a:blip r:embed="rId2"/>
          <a:stretch/>
        </p:blipFill>
        <p:spPr>
          <a:xfrm>
            <a:off x="1905120" y="4724280"/>
            <a:ext cx="3665520" cy="136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C3EB7-3810-4121-917C-A560850B1D0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PSS procedures that help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FREQUENCI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information about one classification at a tim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CROSSTAB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combined information about more than one classification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CHI-SQUAR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comparing observed frequencies with hypothetical on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BINOMI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testing whether performance differs from ‘chance’ </a:t>
            </a:r>
            <a:r>
              <a:rPr b="0" i="1" lang="en-US" sz="1400" spc="-1" strike="noStrike">
                <a:solidFill>
                  <a:srgbClr val="8f210b"/>
                </a:solidFill>
                <a:latin typeface="Albertus Medium"/>
              </a:rPr>
              <a:t>(whatever that is)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6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7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707C0-C4E3-4EBC-8EA8-2D258997F05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Sensitivity and Specificity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esting for the presence of a Disease in a person from a popula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nsitivity: Probability that a Positive result means when the Disease is present - P(+|D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pecificity: Probability that a person who tests Positive has the Disease – P(D|+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Influenced by the Prevalence of the Disease in the population: P(D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See Martin Bland: An Introduction to Medical Statistic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Bay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01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02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BF57E-F160-4CBC-A127-5E544F78236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mpson’s Paradox: example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ospital I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305" name="Object 0"/>
          <p:cNvGraphicFramePr/>
          <p:nvPr/>
        </p:nvGraphicFramePr>
        <p:xfrm>
          <a:off x="3135240" y="2895480"/>
          <a:ext cx="4656240" cy="2630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06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35240" y="2895480"/>
                    <a:ext cx="4656240" cy="263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7" name="Text Box 5"/>
          <p:cNvSpPr/>
          <p:nvPr/>
        </p:nvSpPr>
        <p:spPr>
          <a:xfrm>
            <a:off x="1403280" y="5105520"/>
            <a:ext cx="815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he New treatment is positively associated with recovery (Recovery rate 10.6% vs 4.8%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0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7C27D-E22B-421F-9198-016BCF23C72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mpson’s Paradox: example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ospital II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313" name="Object 4"/>
          <p:cNvGraphicFramePr/>
          <p:nvPr/>
        </p:nvGraphicFramePr>
        <p:xfrm>
          <a:off x="3500280" y="2898720"/>
          <a:ext cx="4884840" cy="2629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1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0280" y="2898720"/>
                    <a:ext cx="4884840" cy="26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5" name="Text Box 5"/>
          <p:cNvSpPr/>
          <p:nvPr/>
        </p:nvSpPr>
        <p:spPr>
          <a:xfrm>
            <a:off x="1403280" y="5181480"/>
            <a:ext cx="815508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Again, the New treatment is positively associated with recovery (Recovery rate 98.8% vs 67.2%)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7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8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83EAB-0343-4F67-AB85-6A7B0DA4A77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mpson’s Paradox: example (I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mbined dat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321" name="Object 4"/>
          <p:cNvGraphicFramePr/>
          <p:nvPr/>
        </p:nvGraphicFramePr>
        <p:xfrm>
          <a:off x="4381560" y="2819520"/>
          <a:ext cx="4113000" cy="3116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2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81560" y="2819520"/>
                    <a:ext cx="4113000" cy="31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3" name="Text Box 5"/>
          <p:cNvSpPr/>
          <p:nvPr/>
        </p:nvSpPr>
        <p:spPr>
          <a:xfrm>
            <a:off x="1403280" y="5181480"/>
            <a:ext cx="815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When combined, the New treatment is negatively associated with recovery (Recovery rate 35.8% vs 57.9%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5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6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508F6-BADC-47AB-ABB8-4D18CECAFAF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Simpson’s Paradox explained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328" name="Object 5"/>
          <p:cNvGraphicFramePr/>
          <p:nvPr/>
        </p:nvGraphicFramePr>
        <p:xfrm>
          <a:off x="343080" y="2133720"/>
          <a:ext cx="5016240" cy="3816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2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3080" y="2133720"/>
                    <a:ext cx="5016240" cy="38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0" name="Text Box 7"/>
          <p:cNvSpPr/>
          <p:nvPr/>
        </p:nvSpPr>
        <p:spPr>
          <a:xfrm>
            <a:off x="5599080" y="2637000"/>
            <a:ext cx="3960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end points of the in-between line are differently weighted averages of the end points of the upper and lower lin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2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3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B6B1F-16D1-445E-8591-529F6832A68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easuring agreemen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Kapp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wo judges rate items on the same categorical sca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How well do they agree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se Crosstabs with two classifying variable having the same categor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Kappa under the Statistics options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a3ce82"/>
                </a:solidFill>
                <a:uFillTx/>
                <a:latin typeface="Albertus Medium"/>
                <a:hlinkClick r:id="rId1"/>
              </a:rPr>
              <a:t>http://imaging.mrc-cbu.cam.ac.uk/statswiki/FAQ/kapp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lbertus Medium"/>
              </a:rPr>
              <a:t>Alternative kappa (Brennan and Prediger, 198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7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8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B20BE-F38E-4CB9-9BF7-94C8C1EB7D6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greement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1568520" y="4038480"/>
            <a:ext cx="730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% Agreement is 21/30 = 70% but could be high due to chanc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41" name="Picture 5" descr=""/>
          <p:cNvPicPr/>
          <p:nvPr/>
        </p:nvPicPr>
        <p:blipFill>
          <a:blip r:embed="rId1"/>
          <a:stretch/>
        </p:blipFill>
        <p:spPr>
          <a:xfrm>
            <a:off x="3135240" y="2057400"/>
            <a:ext cx="4127400" cy="1490760"/>
          </a:xfrm>
          <a:prstGeom prst="rect">
            <a:avLst/>
          </a:prstGeom>
          <a:ln w="0">
            <a:noFill/>
          </a:ln>
        </p:spPr>
      </p:pic>
      <p:sp>
        <p:nvSpPr>
          <p:cNvPr id="1342" name="Oval 6"/>
          <p:cNvSpPr/>
          <p:nvPr/>
        </p:nvSpPr>
        <p:spPr>
          <a:xfrm>
            <a:off x="8915400" y="121932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3" name="Oval 7"/>
          <p:cNvSpPr/>
          <p:nvPr/>
        </p:nvSpPr>
        <p:spPr>
          <a:xfrm>
            <a:off x="5045040" y="2843280"/>
            <a:ext cx="15228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4" name="Oval 8"/>
          <p:cNvSpPr/>
          <p:nvPr/>
        </p:nvSpPr>
        <p:spPr>
          <a:xfrm>
            <a:off x="5646600" y="2987640"/>
            <a:ext cx="15264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5" name="Oval 9"/>
          <p:cNvSpPr/>
          <p:nvPr/>
        </p:nvSpPr>
        <p:spPr>
          <a:xfrm>
            <a:off x="6248520" y="3124080"/>
            <a:ext cx="152280" cy="15264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7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8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26770-1502-41C2-B9D6-30DF45FC76C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hance-corrected agreement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350" name="Picture 6" descr=""/>
          <p:cNvPicPr/>
          <p:nvPr/>
        </p:nvPicPr>
        <p:blipFill>
          <a:blip r:embed="rId1"/>
          <a:stretch/>
        </p:blipFill>
        <p:spPr>
          <a:xfrm>
            <a:off x="1981080" y="2819520"/>
            <a:ext cx="5305680" cy="1360440"/>
          </a:xfrm>
          <a:prstGeom prst="rect">
            <a:avLst/>
          </a:prstGeom>
          <a:ln w="0">
            <a:noFill/>
          </a:ln>
        </p:spPr>
      </p:pic>
      <p:sp>
        <p:nvSpPr>
          <p:cNvPr id="1351" name="Text Box 7"/>
          <p:cNvSpPr/>
          <p:nvPr/>
        </p:nvSpPr>
        <p:spPr>
          <a:xfrm>
            <a:off x="495360" y="4876920"/>
            <a:ext cx="8186760" cy="10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Cohen’s Kappa (</a:t>
            </a:r>
            <a:r>
              <a:rPr b="0" lang="en-US" sz="2000" spc="-1" strike="noStrike">
                <a:solidFill>
                  <a:srgbClr val="8f210b"/>
                </a:solidFill>
                <a:latin typeface="Symbol"/>
                <a:ea typeface="Symbol"/>
              </a:rPr>
              <a:t>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 = 0.473) is chance-corrected: 47.3%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greement between the judges is well above chance, but is it good enough?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3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4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08874-B27F-44C7-8CD8-0FA7F484FE3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easuring chang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/>
          </p:nvPr>
        </p:nvSpPr>
        <p:spPr>
          <a:xfrm>
            <a:off x="1320840" y="1980720"/>
            <a:ext cx="841680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 patient with acquired dyslexia does a 40 item picture naming task twice at a 6 month interv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7" name="Rectangle 5"/>
          <p:cNvSpPr/>
          <p:nvPr/>
        </p:nvSpPr>
        <p:spPr>
          <a:xfrm>
            <a:off x="1403280" y="4836960"/>
            <a:ext cx="8417160" cy="14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ccuracy falls from 19/40 to 11/40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29040" indent="-3290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s this a real deterioration, noting that 28/40 items show no change across the two tests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29040" indent="-3290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58" name="Picture 6" descr=""/>
          <p:cNvPicPr/>
          <p:nvPr/>
        </p:nvPicPr>
        <p:blipFill>
          <a:blip r:embed="rId1"/>
          <a:stretch/>
        </p:blipFill>
        <p:spPr>
          <a:xfrm>
            <a:off x="3382920" y="3352680"/>
            <a:ext cx="3565440" cy="1463760"/>
          </a:xfrm>
          <a:prstGeom prst="rect">
            <a:avLst/>
          </a:prstGeom>
          <a:ln w="0">
            <a:noFill/>
          </a:ln>
        </p:spPr>
      </p:pic>
      <p:sp>
        <p:nvSpPr>
          <p:cNvPr id="1359" name="Oval 7"/>
          <p:cNvSpPr/>
          <p:nvPr/>
        </p:nvSpPr>
        <p:spPr>
          <a:xfrm>
            <a:off x="5073480" y="4175280"/>
            <a:ext cx="15264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0" name="Oval 8"/>
          <p:cNvSpPr/>
          <p:nvPr/>
        </p:nvSpPr>
        <p:spPr>
          <a:xfrm>
            <a:off x="5765760" y="4335480"/>
            <a:ext cx="15228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2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3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05CE5-2F60-479F-B601-DC8A82E42A5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cNemar’s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4825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This is specifically designed for this type of hypothesi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-32220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Equivalent to a Binomial Test (with p=0.5) of Freq(Correct</a:t>
            </a:r>
            <a:r>
              <a:rPr b="0" lang="en-US" sz="18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Error) vs. Freq(Error</a:t>
            </a:r>
            <a:r>
              <a:rPr b="0" lang="en-US" sz="18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Correct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-32220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In this case 10 vs. 2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66" name="Picture 4" descr=""/>
          <p:cNvPicPr/>
          <p:nvPr/>
        </p:nvPicPr>
        <p:blipFill>
          <a:blip r:embed="rId1"/>
          <a:stretch/>
        </p:blipFill>
        <p:spPr>
          <a:xfrm>
            <a:off x="5410080" y="1905120"/>
            <a:ext cx="3951360" cy="2838240"/>
          </a:xfrm>
          <a:prstGeom prst="rect">
            <a:avLst/>
          </a:prstGeom>
          <a:ln w="0">
            <a:noFill/>
          </a:ln>
        </p:spPr>
      </p:pic>
      <p:pic>
        <p:nvPicPr>
          <p:cNvPr id="1367" name="Picture 5" descr=""/>
          <p:cNvPicPr/>
          <p:nvPr/>
        </p:nvPicPr>
        <p:blipFill>
          <a:blip r:embed="rId2"/>
          <a:stretch/>
        </p:blipFill>
        <p:spPr>
          <a:xfrm>
            <a:off x="1066680" y="4191120"/>
            <a:ext cx="3565800" cy="1463400"/>
          </a:xfrm>
          <a:prstGeom prst="rect">
            <a:avLst/>
          </a:prstGeom>
          <a:ln w="0">
            <a:noFill/>
          </a:ln>
        </p:spPr>
      </p:pic>
      <p:sp>
        <p:nvSpPr>
          <p:cNvPr id="1368" name="Oval 7"/>
          <p:cNvSpPr/>
          <p:nvPr/>
        </p:nvSpPr>
        <p:spPr>
          <a:xfrm>
            <a:off x="3405240" y="4968720"/>
            <a:ext cx="228600" cy="2286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9" name="Oval 8"/>
          <p:cNvSpPr/>
          <p:nvPr/>
        </p:nvSpPr>
        <p:spPr>
          <a:xfrm>
            <a:off x="2717640" y="5132520"/>
            <a:ext cx="228600" cy="2286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FFF6A-C568-4A49-BA39-0AB71EF56A7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ypes of Data: Quantitativ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Numerical measurements or coun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ontinuous measuremen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Reaction time, BOLD signal, EEG signal, …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Discrete measuremen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Whole numbers, like numbers of errors, marks in an exam …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1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2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12ED4-4450-48AE-BD44-12A0D4C0722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cNemar’s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74" name="PlaceHolder 2"/>
          <p:cNvSpPr>
            <a:spLocks noGrp="1"/>
          </p:cNvSpPr>
          <p:nvPr>
            <p:ph/>
          </p:nvPr>
        </p:nvSpPr>
        <p:spPr>
          <a:xfrm>
            <a:off x="412560" y="1981080"/>
            <a:ext cx="482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n this case we can assert that there is evidence of deterior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75" name="Picture 6" descr=""/>
          <p:cNvPicPr/>
          <p:nvPr/>
        </p:nvPicPr>
        <p:blipFill>
          <a:blip r:embed="rId1"/>
          <a:stretch/>
        </p:blipFill>
        <p:spPr>
          <a:xfrm>
            <a:off x="5281560" y="2057400"/>
            <a:ext cx="4446720" cy="1289160"/>
          </a:xfrm>
          <a:prstGeom prst="rect">
            <a:avLst/>
          </a:prstGeom>
          <a:ln w="0">
            <a:noFill/>
          </a:ln>
        </p:spPr>
      </p:pic>
      <p:sp>
        <p:nvSpPr>
          <p:cNvPr id="1376" name="Rectangle 7"/>
          <p:cNvSpPr/>
          <p:nvPr/>
        </p:nvSpPr>
        <p:spPr>
          <a:xfrm>
            <a:off x="271440" y="4076640"/>
            <a:ext cx="8612280" cy="18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an obtain confidence intervals for the difference in proportions: </a:t>
            </a:r>
            <a:r>
              <a:rPr b="0" lang="en-GB" sz="2000" spc="-1" strike="noStrike" u="sng">
                <a:solidFill>
                  <a:srgbClr val="a3ce82"/>
                </a:solidFill>
                <a:uFillTx/>
                <a:latin typeface="Albertus Medium"/>
                <a:hlinkClick r:id="rId2"/>
              </a:rPr>
              <a:t>http://imaging.mrc-cbu.cam.ac.uk/statswiki/FAQ/BinomialConfidence/2gpp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Also McNemar-Bowker tests for changes in times in a k x k table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8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9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3DCE6-8C53-4ACF-91D5-CF3EAC1B1B6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ssociation or Independenc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hi-squared test of associ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mparing two or more classified sampl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esting whether the frequencies for one classification depend on the category of another classific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nly to be used when the numbers in the cells are frequencies, never with proportions, percentages or measuremen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3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4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7FD58-A855-4E10-ADD5-EFA47BE4B57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ssociation or Independenc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86" name="PlaceHolder 2"/>
          <p:cNvSpPr>
            <a:spLocks noGrp="1"/>
          </p:cNvSpPr>
          <p:nvPr>
            <p:ph/>
          </p:nvPr>
        </p:nvSpPr>
        <p:spPr>
          <a:xfrm>
            <a:off x="412920" y="2209680"/>
            <a:ext cx="412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s Side of Lesion associated with Sex of Patient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Frequencies and then ‘Chi-square’ and ‘Phi’ under Statistics, and  ‘Exact’ under Exact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87" name="Picture 5" descr=""/>
          <p:cNvPicPr/>
          <p:nvPr/>
        </p:nvPicPr>
        <p:blipFill>
          <a:blip r:embed="rId1"/>
          <a:stretch/>
        </p:blipFill>
        <p:spPr>
          <a:xfrm>
            <a:off x="4869000" y="2286000"/>
            <a:ext cx="4951440" cy="14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9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0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748BD-B485-4FF4-8D9C-EF9B39AF7A7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Output ...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329760" y="3962160"/>
            <a:ext cx="412596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No evidence of any above-chance association between Sex and Side of Les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93" name="Picture 5" descr=""/>
          <p:cNvPicPr/>
          <p:nvPr/>
        </p:nvPicPr>
        <p:blipFill>
          <a:blip r:embed="rId1"/>
          <a:stretch/>
        </p:blipFill>
        <p:spPr>
          <a:xfrm>
            <a:off x="3630600" y="1905120"/>
            <a:ext cx="6083280" cy="2157120"/>
          </a:xfrm>
          <a:prstGeom prst="rect">
            <a:avLst/>
          </a:prstGeom>
          <a:ln w="0">
            <a:noFill/>
          </a:ln>
        </p:spPr>
      </p:pic>
      <p:pic>
        <p:nvPicPr>
          <p:cNvPr id="1394" name="Picture 6" descr=""/>
          <p:cNvPicPr/>
          <p:nvPr/>
        </p:nvPicPr>
        <p:blipFill>
          <a:blip r:embed="rId2"/>
          <a:stretch/>
        </p:blipFill>
        <p:spPr>
          <a:xfrm>
            <a:off x="4621320" y="4114800"/>
            <a:ext cx="4811760" cy="1646280"/>
          </a:xfrm>
          <a:prstGeom prst="rect">
            <a:avLst/>
          </a:prstGeom>
          <a:ln w="0">
            <a:noFill/>
          </a:ln>
        </p:spPr>
      </p:pic>
      <p:sp>
        <p:nvSpPr>
          <p:cNvPr id="1395" name="Rectangle 7"/>
          <p:cNvSpPr/>
          <p:nvPr/>
        </p:nvSpPr>
        <p:spPr>
          <a:xfrm>
            <a:off x="382680" y="5734080"/>
            <a:ext cx="900756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an derive confidence intervals for difference in proportio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BinomialConfidence/2gp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7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8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8AE11-116C-4B61-9163-25A8E5580B2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Larger table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wo way tables can be analysed the same wa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ree- (or more)  way classifications need a more analytical approach such as Log Linear Modelling, available with the Loglinear procedure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2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3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5E194-7409-4BFF-844F-4783B0B4309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 3 x 3 Examp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405" name="Picture 5" descr=""/>
          <p:cNvPicPr/>
          <p:nvPr/>
        </p:nvPicPr>
        <p:blipFill>
          <a:blip r:embed="rId1"/>
          <a:stretch/>
        </p:blipFill>
        <p:spPr>
          <a:xfrm>
            <a:off x="247680" y="1981080"/>
            <a:ext cx="5010120" cy="1636920"/>
          </a:xfrm>
          <a:prstGeom prst="rect">
            <a:avLst/>
          </a:prstGeom>
          <a:ln w="0">
            <a:noFill/>
          </a:ln>
        </p:spPr>
      </p:pic>
      <p:pic>
        <p:nvPicPr>
          <p:cNvPr id="1406" name="Picture 6" descr=""/>
          <p:cNvPicPr/>
          <p:nvPr/>
        </p:nvPicPr>
        <p:blipFill>
          <a:blip r:embed="rId2"/>
          <a:stretch/>
        </p:blipFill>
        <p:spPr>
          <a:xfrm>
            <a:off x="5199120" y="2057400"/>
            <a:ext cx="3960720" cy="1920960"/>
          </a:xfrm>
          <a:prstGeom prst="rect">
            <a:avLst/>
          </a:prstGeom>
          <a:ln w="0">
            <a:noFill/>
          </a:ln>
        </p:spPr>
      </p:pic>
      <p:pic>
        <p:nvPicPr>
          <p:cNvPr id="1407" name="Picture 7" descr=""/>
          <p:cNvPicPr/>
          <p:nvPr/>
        </p:nvPicPr>
        <p:blipFill>
          <a:blip r:embed="rId3"/>
          <a:stretch/>
        </p:blipFill>
        <p:spPr>
          <a:xfrm>
            <a:off x="2146320" y="4267080"/>
            <a:ext cx="4653000" cy="15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7432A-19C1-47E8-A806-A044BFB3E8C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autions (I)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ooling of data can mislead, or even violate the assumptions of the tests (cf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Simpson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5280" indent="-3052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Each individual observation is supposed to be independent of the other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5280" indent="-3052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o pooling multiple observations across a group of subjects will typically violate this rul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5280" indent="-3052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s needs to be handled using either summary measures (e.g. Log Odds), Generalised Linear Mixed Models or Matched Pairs: 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MatchedPai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CB567-0688-4DD2-B5DF-AD612EED8A7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autions (II)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 is conventional to be cautious if there are low  Expected values in any cell (e.g. E&lt;5).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Recent research suggest this is overcautious, though use of Fisher’s Exact Test is recommended in the general case. Campbell (2007) however suggests (N-1/N) x chi-square for 2x2 tables with Expected Values &gt; 1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lternatively one can amalgamate across two or more categorie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2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1CFC0-7BA5-4E5D-9FCE-B9876A4476C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Next week at 11am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OVA of balanced multi-factorial designs: between subject designs, and single subject studies 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                                                                                             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61BE9-1109-4CC2-A6AC-0318622EFAA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ypes of Data: Qualitativ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Nomin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rdinal dat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DC6F5-8D89-4E11-9BFD-818973759CD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Nominal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categories are descriptive label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utcome: {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Error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Correct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}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x: {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Femal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Mal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}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9C86A-0D56-45CB-AEFB-E90F988F18C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5f7b"/>
                </a:solidFill>
                <a:latin typeface="Albertus Medium"/>
              </a:rPr>
              <a:t>From ICD-10: Chapter V: Mental and behavioural disorders</a:t>
            </a:r>
            <a:br>
              <a:rPr sz="2000"/>
            </a:br>
            <a:r>
              <a:rPr b="0" lang="en-US" sz="1400" spc="-1" strike="noStrike">
                <a:solidFill>
                  <a:srgbClr val="515f7b"/>
                </a:solidFill>
                <a:latin typeface="Albertus Medium"/>
              </a:rPr>
              <a:t>(International Statistical Classification of Diseases and Related Health Problems)</a:t>
            </a:r>
            <a:endParaRPr b="0" lang="en-US" sz="1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34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00-F99 - Mental and behavioural disorder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0-F09) Organic, including symptomatic, mental disorder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0.) Dementia in Alzheimer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1.) Vascular dementia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1.1) Multi-infarct dementia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) Dementia in other diseases classified elsewher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0) Dementia in Pick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1) Dementia in Creutzfeldt-Jakob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2) Dementia in Huntington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3) Dementia in Parkinson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4) Dementia in human immunodeficiency virus (HIV)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3.) Unspecified dementia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4.) Organic amnesic syndrome, not induced by alcohol and other psychoactive substanc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5.) Delirium, not induced by alcohol and other psychoactive substanc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6.) Other mental disorders due to brain damage and dysfunction and to physical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7.) Personality and behavioural disorders due to brain disease, damage and dysfunction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9.) Unspecified organic or symptomatic mental disorder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3C63C-AA11-4A81-9D95-CA613FC53E4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Ordinal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categories are ranged in an orde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Rating scale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Endorsement of a statement: {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trongly agree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Agree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Neutral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Disagree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trongly disagree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ge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ge Group: {20+ to 30, 30+ to 40, 40+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osi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Birth order: {1st, 2nd, 3rd, 4th, ...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arget position: {Left, Central, Right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rial block: {1st, 2nd, 3rd, …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5T17:30:56Z</dcterms:created>
  <dc:creator>CBU</dc:creator>
  <dc:description/>
  <dc:language>en-US</dc:language>
  <cp:lastModifiedBy>Peter Watson</cp:lastModifiedBy>
  <cp:lastPrinted>2004-10-20T13:39:49Z</cp:lastPrinted>
  <dcterms:modified xsi:type="dcterms:W3CDTF">2019-08-06T10:47:20Z</dcterms:modified>
  <cp:revision>122</cp:revision>
  <dc:subject/>
  <dc:title>Aims and Objectives</dc:title>
</cp:coreProperties>
</file>